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513-D7C1-41BB-ABA1-EEE45675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168-B59D-4D03-BDB5-2362F8C9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3D5-3AAA-4299-BC75-4205812D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D3A-2817-42F0-8978-A7839F55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E82-62C2-4A15-BD23-2D2AD9DD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35E-2019-42B8-B4FA-7590A28D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223-95C2-469E-970C-416802AE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C23-AED8-4142-93F8-869A34CB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40F-D1BB-484F-863A-47FD9A33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B55-6229-4EE0-9BA7-6D4F95BE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CD0-DAFB-4F57-8EFF-0C33C9F9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DE5-E0BE-4698-A5BC-ACCAB9D1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2ED4-5F9B-4E25-A003-41C50DA90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20" y="50760"/>
            <a:ext cx="55105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83960" y="1460520"/>
            <a:ext cx="702324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the median age of a countries population rises and there is a rise in the proportion of a countries population that is over 65 years old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2200" y="3322800"/>
            <a:ext cx="7939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115920"/>
            <a:ext cx="3301920" cy="1832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185760"/>
            <a:ext cx="317628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91280" y="200160"/>
            <a:ext cx="3778200" cy="104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251400" y="266760"/>
            <a:ext cx="36576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age of all countries is due to rise from 29 now to 38 by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11640" y="1152360"/>
            <a:ext cx="3144600" cy="167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71760" y="1227240"/>
            <a:ext cx="3016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present just under 11% of the worlds 6.9 billion people are over 60; by that share will rise to 22% (of 9 b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90440" y="1798560"/>
            <a:ext cx="2657520" cy="135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66960"/>
            <a:ext cx="25365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50 33% of populations in developed countries will be over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350040" y="2359080"/>
            <a:ext cx="3301920" cy="135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11960" y="2428920"/>
            <a:ext cx="31780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ne of the 2 billion people who will be over 60 by 2050 has already been b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751280" y="3556080"/>
            <a:ext cx="402300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11760" y="3627360"/>
            <a:ext cx="3897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rance it took 100 years for the % of the population over 65 to double from 7% to 14%; in China a similar change is predicted to take less than 25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423120" y="5322960"/>
            <a:ext cx="3314520" cy="135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91160" y="5388120"/>
            <a:ext cx="31784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40, the number of people over 64 in Britain is expected to grow from 9.5 million to 15 mill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984240" y="5715000"/>
            <a:ext cx="4667400" cy="167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50840" y="5788080"/>
            <a:ext cx="4538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ensions were introduced in the early 1900s there were 22 people of working age in Britain for every retired person. In 2024 there will be less than thre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07960" y="3556080"/>
            <a:ext cx="3387600" cy="16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680" y="3627360"/>
            <a:ext cx="3257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last two decades, consumption by Europe's over 50s has risen three times as fast as that of the rest of the popu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03440" y="4979880"/>
            <a:ext cx="4468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s - U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9720" y="1481040"/>
            <a:ext cx="84992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Youthful to Ageing - Chin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9720" y="1481040"/>
            <a:ext cx="83296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hinking about ageing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ebono’s 6 Ha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52600" y="1828440"/>
            <a:ext cx="928512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estions (White) - considering purely what information is available, what are the fact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motions (Red) - instinctive gut reaction or statements of emotional feeling (but not any justification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d points judgement (Black) - logic applied to identifying flaws or barriers, seeking mismatch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od points (Yellow) - logic applied to identifying benefits, seeking harmony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ivity (Green) - statements of provocation and investigation, seeing where a thought goe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nking (Blue) - thinking about thinking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4200" y="260280"/>
            <a:ext cx="35114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44440" y="1541520"/>
            <a:ext cx="9591840" cy="56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will be allocated a thinking h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should read the articles and consider the information relevant to your thinking ha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then hold a discussion on the “ageing population” issue; we will aim to identify and agree upon strategies that the UK should take to manage its ageing populatio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go in this order; blue, white, red, yellow, black, gree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fter the discussion you will need to write-up your case study not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994440" y="200160"/>
            <a:ext cx="2943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 Write 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20268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evidence is there that the population in the UK is ageing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reasons for this ageing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positive opportunities provided by an ageing population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challenges and issues associated with an ageing populatio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strategies has the UK implemented in response to the ageing issu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effective will these strategies be and what additional options might the UK consider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