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D94-EF0E-4F15-90FB-66269377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D7A-8D4B-401C-A3A1-AF925BD7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654-B8BF-4AE1-AEA2-1F69E954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482-27F6-48AE-A778-53D90AC7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AED-11CC-4B3B-B179-88E7404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801-B804-499D-982E-66BA8302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E56-FD8B-407A-9EB5-FF06469D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0CF-2EE8-4C34-A1BA-0FACB324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364-F799-4AA4-8B56-830FC857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104-299B-4FAC-831E-7A920F7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D77-6D03-4A59-BFFF-8E256EF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C60-60C2-4BED-9CF3-D959114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D348-395C-4132-A30D-7F8D2F3C8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20" y="50760"/>
            <a:ext cx="55105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83960" y="1460520"/>
            <a:ext cx="702324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the median age of a countries population rises and there is a rise in the proportion of a countries population that is over 65 years old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2200" y="3322800"/>
            <a:ext cx="7939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115920"/>
            <a:ext cx="3301920" cy="1832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85760"/>
            <a:ext cx="317628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91280" y="200160"/>
            <a:ext cx="3778200" cy="104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251400" y="266760"/>
            <a:ext cx="3657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age of all countries is due to rise from 29 now to 38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11640" y="1152360"/>
            <a:ext cx="3144600" cy="167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71760" y="1227240"/>
            <a:ext cx="3016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present just under 11% of the worlds 6.9 billion people are over 60; by that share will rise to 22% (of 9 b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90440" y="1798560"/>
            <a:ext cx="2657520" cy="135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66960"/>
            <a:ext cx="25365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50 33% of populations in developed countries will be over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350040" y="2359080"/>
            <a:ext cx="3301920" cy="135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11960" y="2428920"/>
            <a:ext cx="31780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ne of the 2 billion people who will be over 60 by 2050 has already been b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751280" y="3556080"/>
            <a:ext cx="402300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11760" y="3627360"/>
            <a:ext cx="3897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rance it took 100 years for the % of the population over 65 to double from 7% to 14%; in China a similar change is predicted to take less than 25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423120" y="5322960"/>
            <a:ext cx="3314520" cy="135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91160" y="5388120"/>
            <a:ext cx="3178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40, the number of people over 64 in Britain is expected to grow from 9.5 million to 15 mill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984240" y="5715000"/>
            <a:ext cx="4667400" cy="167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50840" y="5788080"/>
            <a:ext cx="4538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ensions were introduced in the early 1900s there were 22 people of working age in Britain for every retired person. In 2024 there will be less than thre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07960" y="3556080"/>
            <a:ext cx="3387600" cy="16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680" y="3627360"/>
            <a:ext cx="3257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last two decades, consumption by Europe's over 50s has risen three times as fast as that of the rest of the popu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03440" y="4979880"/>
            <a:ext cx="4468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s - U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9720" y="1481040"/>
            <a:ext cx="84992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thful to Ageing - Chin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9720" y="1481040"/>
            <a:ext cx="83296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hinking about ageing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ebono’s 6 Ha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52600" y="1828440"/>
            <a:ext cx="928512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estions (White) - considering purely what information is available, what are the fact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otions (Red) - instinctive gut reaction or statements of emotional feeling (but not any justification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d points judgement (Black) - logic applied to identifying flaws or barriers, seeking mismatch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od points (Yellow) - logic applied to identifying benefits, seeking harmony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ivity (Green) - statements of provocation and investigation, seeing where a thought goe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nking (Blue) - thinking about thinking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4200" y="260280"/>
            <a:ext cx="35114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44440" y="1541520"/>
            <a:ext cx="959184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will be allocated a thinking h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should read the articles and consider the information relevant to your thinking ha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then hold a discussion on the “ageing population” issue; we will aim to identify and agree upon strategies that the UK should take to manage its ageing populatio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go in this order; blue, white, red, yellow, black, gree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fter the discussion you will need to write-up your case study not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994440" y="200160"/>
            <a:ext cx="2943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 Write 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20268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evidence is there that the population in the UK is ageing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reasons for this ageing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positive opportunities provided by an ageing population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challenges and issues associated with an ageing populatio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strategies has the UK implemented in response to the ageing issu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effective will these strategies be and what additional options might the UK consider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