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DCC-1CB3-44D7-8A0F-D4D60679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7CD-21DA-4940-8C4E-6FE30E8F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34E-576E-4458-9F2C-D945C72A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2B3-3232-4B65-8AA9-36479DED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340-1F09-48E4-8849-8C9E5D79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27C-DCF5-4BDD-A4B5-10509006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ADD-889F-4522-817A-B4A9CABC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CAA-7C5E-4AB3-9E82-FF7E4B85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B6A-50FA-4580-A0C9-E3211AAB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4A1-6BB0-4EEB-AAED-957012E1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C29-0D5E-490B-863D-9065AA8E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958-F2A8-4438-B9E1-9A10A11F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BCC7-A952-4ECB-AFF8-17B17FA14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920" y="50760"/>
            <a:ext cx="55105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geing Populati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83960" y="1460520"/>
            <a:ext cx="702324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en the median age of a countries population rises and there is a rise in the proportion of a countries population that is over 65 years old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2200" y="3322800"/>
            <a:ext cx="79390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960" y="115920"/>
            <a:ext cx="3301920" cy="1832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185760"/>
            <a:ext cx="3176280" cy="16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91280" y="200160"/>
            <a:ext cx="3778200" cy="104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251400" y="266760"/>
            <a:ext cx="36576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age of all countries is due to rise from 29 now to 38 by 2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11640" y="1152360"/>
            <a:ext cx="3144600" cy="167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71760" y="1227240"/>
            <a:ext cx="30164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present just under 11% of the worlds 6.9 billion people are over 60; by that share will rise to 22% (of 9 bil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90440" y="1798560"/>
            <a:ext cx="2657520" cy="135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1866960"/>
            <a:ext cx="25365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050 33% of populations in developed countries will be over 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350040" y="2359080"/>
            <a:ext cx="3301920" cy="1355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11960" y="2428920"/>
            <a:ext cx="31780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ne of the 2 billion people who will be over 60 by 2050 has already been bo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4751280" y="3556080"/>
            <a:ext cx="4023000" cy="196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11760" y="3627360"/>
            <a:ext cx="3897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rance it took 100 years for the % of the population over 65 to double from 7% to 14%; in China a similar change is predicted to take less than 25 ye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423120" y="5322960"/>
            <a:ext cx="3314520" cy="135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91160" y="5388120"/>
            <a:ext cx="31784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040, the number of people over 64 in Britain is expected to grow from 9.5 million to 15 mill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984240" y="5715000"/>
            <a:ext cx="4667400" cy="1673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50840" y="5788080"/>
            <a:ext cx="4538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ensions were introduced in the early 1900s there were 22 people of working age in Britain for every retired person. In 2024 there will be less than thre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07960" y="3556080"/>
            <a:ext cx="3387600" cy="167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680" y="3627360"/>
            <a:ext cx="32572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last two decades, consumption by Europe's over 50s has risen three times as fast as that of the rest of the popul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03440" y="4979880"/>
            <a:ext cx="44686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geing Populations - UK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9720" y="1481040"/>
            <a:ext cx="849924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Youthful to Ageing - China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9720" y="1481040"/>
            <a:ext cx="832968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hinking about ageing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Debono’s 6 Ha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52600" y="1828440"/>
            <a:ext cx="928512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estions (White) - considering purely what information is available, what are the facts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motions (Red) - instinctive gut reaction or statements of emotional feeling (but not any justification)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ad points judgement (Black) - logic applied to identifying flaws or barriers, seeking mismatch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ood points (Yellow) - logic applied to identifying benefits, seeking harmony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eativity (Green) - statements of provocation and investigation, seeing where a thought goe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nking (Blue) - thinking about thinking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4200" y="260280"/>
            <a:ext cx="351144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44440" y="1541520"/>
            <a:ext cx="9591840" cy="56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ou will be allocated a thinking h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ou should read the articles and consider the information relevant to your thinking hat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will then hold a discussion on the “ageing population” issue; we will aim to identify and agree upon strategies that the UK should take to manage its ageing populatio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will go in this order; blue, white, red, yellow, black, gree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fter the discussion you will need to write-up your case study not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994440" y="200160"/>
            <a:ext cx="2943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geing Population Write U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202680" cy="55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evidence is there that the population in the UK is ageing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are the reasons for this ageing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are the positive opportunities provided by an ageing populations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are the challenges and issues associated with an ageing population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strategies has the UK implemented in response to the ageing issu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effective will these strategies be and what additional options might the UK consider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