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E30C-6ACE-46F3-9E9D-6BB0F6F3E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F8FD-6109-46DF-9F31-0B324E1DB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06A3-4584-4221-8017-1507F4885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E575-CBF3-4F31-8780-576364E2A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D875-C33A-4956-87DF-CEF3F68C8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6CC8-4816-4C7B-AEA7-C5121D1BD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7D1D-C2C0-4A3F-83E9-DCA4D24F0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4E0F-B9C8-499C-BF2B-5B946D274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951F-0E1D-4B21-9EDF-E719BAA26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01F1-CFD7-4278-A961-3CED119A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8961-FC39-4661-8945-384BCF4C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05F8-685F-4B5D-84BB-D902AD5C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5D479-36B0-4AAB-B6F9-200D58A301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3920" y="50760"/>
            <a:ext cx="551052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geing Population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883960" y="1460520"/>
            <a:ext cx="702324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en the median age of a countries population rises and there is a rise in the proportion of a countries population that is over 65 years old.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92200" y="3322800"/>
            <a:ext cx="7939080" cy="41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07960" y="115920"/>
            <a:ext cx="3301920" cy="18320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320" y="185760"/>
            <a:ext cx="3176280" cy="16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191280" y="200160"/>
            <a:ext cx="3778200" cy="10490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251400" y="266760"/>
            <a:ext cx="365760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n age of all countries is due to rise from 29 now to 38 by 20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311640" y="1152360"/>
            <a:ext cx="3144600" cy="1675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371760" y="1227240"/>
            <a:ext cx="30164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present just under 11% of the worlds 6.9 billion people are over 60; by that share will rise to 22% (of 9 bill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190440" y="1798560"/>
            <a:ext cx="2657520" cy="1355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50920" y="1866960"/>
            <a:ext cx="253656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2050 33% of populations in developed countries will be over 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6350040" y="2359080"/>
            <a:ext cx="3301920" cy="1355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411960" y="2428920"/>
            <a:ext cx="317808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one of the 2 billion people who will be over 60 by 2050 has already been bo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4751280" y="3556080"/>
            <a:ext cx="4023000" cy="1968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811760" y="3627360"/>
            <a:ext cx="38973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France it took 100 years for the % of the population over 65 to double from 7% to 14%; in China a similar change is predicted to take less than 25 year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6423120" y="5322960"/>
            <a:ext cx="3314520" cy="1355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491160" y="5388120"/>
            <a:ext cx="317844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2040, the number of people over 64 in Britain is expected to grow from 9.5 million to 15 mill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8"/>
          <a:stretch/>
        </p:blipFill>
        <p:spPr>
          <a:xfrm>
            <a:off x="984240" y="5715000"/>
            <a:ext cx="4667400" cy="16732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050840" y="5788080"/>
            <a:ext cx="45388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pensions were introduced in the early 1900s there were 22 people of working age in Britain for every retired person. In 2024 there will be less than thre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>
            <a:off x="507960" y="3556080"/>
            <a:ext cx="3387600" cy="1673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71680" y="3627360"/>
            <a:ext cx="32572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the last two decades, consumption by Europe's over 50s has risen three times as fast as that of the rest of the popula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203440" y="4979880"/>
            <a:ext cx="446868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ase Studi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geing Populations - UK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09720" y="1481040"/>
            <a:ext cx="8499240" cy="59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Youthful to Ageing - China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09720" y="1481040"/>
            <a:ext cx="8329680" cy="58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Thinking about ageing</a:t>
            </a:r>
            <a:br>
              <a:rPr sz="4900"/>
            </a:b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Debono’s 6 Hat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552600" y="1828440"/>
            <a:ext cx="9285120" cy="545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Questions (White) - considering purely what information is available, what are the facts?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motions (Red) - instinctive gut reaction or statements of emotional feeling (but not any justification)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ad points judgement (Black) - logic applied to identifying flaws or barriers, seeking mismatch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ood points (Yellow) - logic applied to identifying benefits, seeking harmony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reativity (Green) - statements of provocation and investigation, seeing where a thought goes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nking (Blue) - thinking about thinking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84200" y="260280"/>
            <a:ext cx="351144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244440" y="1541520"/>
            <a:ext cx="9591840" cy="56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You will be allocated a thinking ha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You should read the articles and consider the information relevant to your thinking hat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e will then hold a discussion on the “ageing population” issue; we will aim to identify and agree upon strategies that the UK should take to manage its ageing population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e will go in this order; blue, white, red, yellow, black, green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fter the discussion you will need to write-up your case study notes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994440" y="200160"/>
            <a:ext cx="294336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geing Population Write Up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552240" y="1828440"/>
            <a:ext cx="9202680" cy="553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at evidence is there that the population in the UK is ageing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at are the reasons for this ageing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at are the positive opportunities provided by an ageing populations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at are the challenges and issues associated with an ageing population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at strategies has the UK implemented in response to the ageing issue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ow effective will these strategies be and what additional options might the UK consider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