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C06-08FB-4268-9A2D-B3BBB5D8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1FE-463B-4A81-AA13-1CA2D5D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3E0-9B49-4B77-9123-4FC3147F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035-8E4F-4C7A-9385-9AE65300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7F3-9B4A-4AD3-BE6D-695DB5D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07B-8689-43CB-88CC-FF7D15BD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64A-6EE7-4712-824A-49E6DE4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1FA-DDC5-424E-93CE-B5B7382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688-E7E6-434F-B77C-91238182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716-C44C-4DAE-82FB-EF9108A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646-2D4F-4855-AFB1-1DC561F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336-0387-4439-98CA-24AB7F9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721F-D2DB-4285-B3AF-70432D2F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41400" y="900000"/>
            <a:ext cx="679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55680" y="380880"/>
            <a:ext cx="95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Counterurbanization is the movement away from the urban centres to smaller towns and  cities or rural are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sons for counter-urb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ar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industr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ion of industry/employment to rural urban f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safe, pleasant environment, the rural ideal/ut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urban areas as dangerous, high levels of crime, racial/ethnic problems – ‘white fligh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nure from public/renting to private ownership. Sell property and mov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Counter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0800" y="1460520"/>
            <a:ext cx="9058320" cy="58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ople move to satellite settlements within the city’s sphere of influ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numbers of people commuting to work in the c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car 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port triangle becomes big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become suburbani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can become commuter /dormitory settl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within a city’s sphere of influence can develop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56680" y="67057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Transport triang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946680" y="2676600"/>
            <a:ext cx="1865160" cy="668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008600" y="2746440"/>
            <a:ext cx="17427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787400" y="5640480"/>
            <a:ext cx="1621080" cy="668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847880" y="5705640"/>
            <a:ext cx="15033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264360" y="5640480"/>
            <a:ext cx="218268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327720" y="5705640"/>
            <a:ext cx="2063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2592360" y="3333600"/>
            <a:ext cx="2297160" cy="231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4878360" y="3333600"/>
            <a:ext cx="2487600" cy="2318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3397320" y="5925960"/>
            <a:ext cx="2889360" cy="9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 for 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s of urban areas which have declined but still have an intrinsic value because of centrality or quality of housing stock attract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sees urban decline as a problem and invests money to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gener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 ar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tige project – Olymp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tiary sector increases, restaurants, nightclubs and retailing attracting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0800" y="1781280"/>
            <a:ext cx="90583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become “centres of consump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trification – Richer people moving into poorer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n-down derelict parts of cities can be redevelop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economic activity within c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reinvent themselves as exciting vibrant places to l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stainable c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574280"/>
            <a:ext cx="9398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tain population, particularly economically active people. Develop human resour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 growth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rastructure and urban servi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lity of lif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al impact. Ecological footprin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rcular metabolism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design and architec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gy efficiencies. Carbon neutral city. (Masdar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108320" y="2759040"/>
            <a:ext cx="57531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ward Movement (Centripet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ural to urban migration, gentrification, re-urbanisation, urban renew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6320" y="727200"/>
            <a:ext cx="8377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 can be seen as inward and outward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58760" y="4052880"/>
            <a:ext cx="3916440" cy="15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158760" y="5661000"/>
            <a:ext cx="38419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231840" y="3206880"/>
            <a:ext cx="3843360" cy="784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108320" y="5384880"/>
            <a:ext cx="5837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ward Movement (Centrifug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urbanisation, urban sprawl, counter-urbanis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3440" y="3724200"/>
            <a:ext cx="2414520" cy="53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87440" y="3786120"/>
            <a:ext cx="2303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87920" y="2444760"/>
            <a:ext cx="306072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48040" y="2505240"/>
            <a:ext cx="294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45240" y="3238560"/>
            <a:ext cx="2351160" cy="942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7607160" y="3305160"/>
            <a:ext cx="222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nter -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4560840" y="6168960"/>
            <a:ext cx="3218040" cy="541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619520" y="6235560"/>
            <a:ext cx="3106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 - 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241720" y="420840"/>
            <a:ext cx="607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5"/>
          <a:stretch/>
        </p:blipFill>
        <p:spPr>
          <a:xfrm>
            <a:off x="6835680" y="2698920"/>
            <a:ext cx="1886040" cy="55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1628640" y="2666880"/>
            <a:ext cx="217188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7767720" y="4168800"/>
            <a:ext cx="9651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4307040" y="5280120"/>
            <a:ext cx="76356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422280" y="313200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10"/>
          <a:stretch/>
        </p:blipFill>
        <p:spPr>
          <a:xfrm>
            <a:off x="422280" y="254016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"/>
          <p:cNvPicPr/>
          <p:nvPr/>
        </p:nvPicPr>
        <p:blipFill>
          <a:blip r:embed="rId11"/>
          <a:stretch/>
        </p:blipFill>
        <p:spPr>
          <a:xfrm>
            <a:off x="5587920" y="67723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12"/>
          <a:stretch/>
        </p:blipFill>
        <p:spPr>
          <a:xfrm>
            <a:off x="9080640" y="4200480"/>
            <a:ext cx="80460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"/>
          <p:cNvPicPr/>
          <p:nvPr/>
        </p:nvPicPr>
        <p:blipFill>
          <a:blip r:embed="rId13"/>
          <a:stretch/>
        </p:blipFill>
        <p:spPr>
          <a:xfrm>
            <a:off x="5238720" y="18097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"/>
          <p:cNvPicPr/>
          <p:nvPr/>
        </p:nvPicPr>
        <p:blipFill>
          <a:blip r:embed="rId14"/>
          <a:stretch/>
        </p:blipFill>
        <p:spPr>
          <a:xfrm>
            <a:off x="6434280" y="6772320"/>
            <a:ext cx="80460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"/>
          <p:cNvPicPr/>
          <p:nvPr/>
        </p:nvPicPr>
        <p:blipFill>
          <a:blip r:embed="rId15"/>
          <a:stretch/>
        </p:blipFill>
        <p:spPr>
          <a:xfrm>
            <a:off x="9080640" y="4762440"/>
            <a:ext cx="80460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"/>
          <p:cNvPicPr/>
          <p:nvPr/>
        </p:nvPicPr>
        <p:blipFill>
          <a:blip r:embed="rId16"/>
          <a:stretch/>
        </p:blipFill>
        <p:spPr>
          <a:xfrm>
            <a:off x="6032520" y="1809720"/>
            <a:ext cx="81612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"/>
          <p:cNvPicPr/>
          <p:nvPr/>
        </p:nvPicPr>
        <p:blipFill>
          <a:blip r:embed="rId17"/>
          <a:stretch/>
        </p:blipFill>
        <p:spPr>
          <a:xfrm>
            <a:off x="3629160" y="4222800"/>
            <a:ext cx="2817720" cy="107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6"/>
          <p:cNvSpPr/>
          <p:nvPr/>
        </p:nvSpPr>
        <p:spPr>
          <a:xfrm>
            <a:off x="3691080" y="4289400"/>
            <a:ext cx="26938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7" descr=""/>
          <p:cNvPicPr/>
          <p:nvPr/>
        </p:nvPicPr>
        <p:blipFill>
          <a:blip r:embed="rId18"/>
          <a:stretch/>
        </p:blipFill>
        <p:spPr>
          <a:xfrm>
            <a:off x="5334120" y="3639960"/>
            <a:ext cx="8046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55680" y="457200"/>
            <a:ext cx="9144000" cy="66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rbanization is the increase in the percentage of a population living in settlements which could be classified as urban are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reach stage 2/3 of D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increase in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ral to urban migr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ush/pull factors, obstacles/barriers, Stepwise model, Zelinsky’s model, Lee’s Model, Turners mode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9312120" y="584208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1200" y="1828800"/>
            <a:ext cx="9367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urban growth (the expansion of cit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mate citi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ntres of produc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for housing, and other urban servi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l sector, public hous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mainly LEDCs and N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7960" y="5181480"/>
            <a:ext cx="9379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36560" y="5334120"/>
            <a:ext cx="8381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Urban growth is the growth of cities in terms of size of land area and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55680" y="533520"/>
            <a:ext cx="883908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urbanization is the increase in the numbers of people living in the residential areas near the edge of the city (suburbs) leading to the outward growth of urban are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urban growth leads new residential areas being built in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problems and overcrowding in inner city areas cause richer people to move to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ing public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de-industrialization such as shipbuilding, warehouses or factories clo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smaller settlements merge into larger multi-centric conurb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on rural/urban fri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cious circle of decline in inner city areas. “Donut cit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07:39Z</dcterms:created>
  <dc:creator>Google</dc:creator>
  <dc:description/>
  <dc:language>en-US</dc:language>
  <cp:lastModifiedBy>Phil Randay</cp:lastModifiedBy>
  <dcterms:modified xsi:type="dcterms:W3CDTF">2010-09-02T14:49:52Z</dcterms:modified>
  <cp:revision>4</cp:revision>
  <dc:subject/>
  <dc:title>PowerPoint Presentation</dc:title>
</cp:coreProperties>
</file>