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D407-7266-4983-A29F-D6DAD361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4520-6E62-4DAF-8414-AA60B504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3E47-031D-4D27-A0AE-6EAA773F7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D234-088F-4BD5-9AD1-A0504724E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6BCD-7BF6-487D-95B9-1DED6CBA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F528-8AF7-4E1E-9FDA-4F8EDEF2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40DD-FE54-4B43-ACBE-AA61F296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CBD1-B9B9-457D-AAB2-DDC2FC15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63BB-297F-4DD4-A015-E053916E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7D83-7D1E-4EE6-AB6B-3FEBB662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D9A7-9C19-4961-8D8E-DC6209AE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C35D-970E-4AEF-99EB-ED1ED7D4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AAFA-687C-4773-A7F6-FC6FA6922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3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4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13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841400" y="900000"/>
            <a:ext cx="6796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rban Proce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61760" y="2200320"/>
            <a:ext cx="8636040" cy="4573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355680" y="380880"/>
            <a:ext cx="9524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Counterurbanization is the movement away from the urban centres to smaller towns and  cities or rural area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50800" y="355320"/>
            <a:ext cx="90583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asons for counter-urban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50800" y="1828800"/>
            <a:ext cx="905832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car ow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w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-industria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ocation of industry/employment to rural urban fri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re for safe, pleasant environment, the rural ideal/utop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ion of urban areas as dangerous, high levels of crime, racial/ethnic problems – ‘white fligh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tenure from public/renting to private ownership. Sell property and move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9482040" y="6699240"/>
            <a:ext cx="6573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355320"/>
            <a:ext cx="90583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000000"/>
                </a:solidFill>
                <a:uFillTx/>
                <a:latin typeface="Arial"/>
              </a:rPr>
              <a:t>Counter-urbanis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50800" y="1460520"/>
            <a:ext cx="9058320" cy="58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eople move to satellite settlements within the city’s sphere of influenc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creased numbers of people commuting to work in the cit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creased car us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ransport triangle becomes bigg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ural areas become suburbanise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ural areas can become commuter /dormitory settlemen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ural areas within a city’s sphere of influence can develop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8356680" y="6705720"/>
            <a:ext cx="457200" cy="371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9482040" y="6699240"/>
            <a:ext cx="6573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355320"/>
            <a:ext cx="90583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000000"/>
                </a:solidFill>
                <a:uFillTx/>
                <a:latin typeface="Arial"/>
              </a:rPr>
              <a:t>Transport triangl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3946680" y="2676600"/>
            <a:ext cx="1865160" cy="6681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4008600" y="2746440"/>
            <a:ext cx="174276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1787400" y="5640480"/>
            <a:ext cx="1621080" cy="668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1847880" y="5705640"/>
            <a:ext cx="150336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3"/>
          <a:stretch/>
        </p:blipFill>
        <p:spPr>
          <a:xfrm>
            <a:off x="6264360" y="5640480"/>
            <a:ext cx="2182680" cy="6681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6327720" y="5705640"/>
            <a:ext cx="206388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IS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10" descr=""/>
          <p:cNvPicPr/>
          <p:nvPr/>
        </p:nvPicPr>
        <p:blipFill>
          <a:blip r:embed="rId4"/>
          <a:stretch/>
        </p:blipFill>
        <p:spPr>
          <a:xfrm>
            <a:off x="2592360" y="3333600"/>
            <a:ext cx="2297160" cy="2318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"/>
          <p:cNvPicPr/>
          <p:nvPr/>
        </p:nvPicPr>
        <p:blipFill>
          <a:blip r:embed="rId5"/>
          <a:stretch/>
        </p:blipFill>
        <p:spPr>
          <a:xfrm>
            <a:off x="4878360" y="3333600"/>
            <a:ext cx="2487600" cy="2318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"/>
          <p:cNvPicPr/>
          <p:nvPr/>
        </p:nvPicPr>
        <p:blipFill>
          <a:blip r:embed="rId6"/>
          <a:stretch/>
        </p:blipFill>
        <p:spPr>
          <a:xfrm>
            <a:off x="3397320" y="5925960"/>
            <a:ext cx="2889360" cy="96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"/>
          <p:cNvPicPr/>
          <p:nvPr/>
        </p:nvPicPr>
        <p:blipFill>
          <a:blip r:embed="rId7"/>
          <a:stretch/>
        </p:blipFill>
        <p:spPr>
          <a:xfrm>
            <a:off x="9482040" y="6699240"/>
            <a:ext cx="6573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50800" y="355320"/>
            <a:ext cx="90583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000000"/>
                </a:solidFill>
                <a:uFillTx/>
                <a:latin typeface="Arial"/>
              </a:rPr>
              <a:t>Reason for re-urbanis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50800" y="1828800"/>
            <a:ext cx="905832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arts of urban areas which have declined but still have an intrinsic value because of centrality or quality of housing stock attract peop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overnment sees urban decline as a problem and invests money to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regenerat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an area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estige project – Olympic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rtiary sector increases, restaurants, nightclubs and retailing attracting peop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9482040" y="6699240"/>
            <a:ext cx="6573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50800" y="355320"/>
            <a:ext cx="90583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000000"/>
                </a:solidFill>
                <a:uFillTx/>
                <a:latin typeface="Arial"/>
              </a:rPr>
              <a:t>Re-urbanis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50800" y="1781280"/>
            <a:ext cx="905832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ities become “centres of consumption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entrification – Richer people moving into poorer area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un-down derelict parts of cities can be redevelope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creased economic activity within citi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ities reinvent themselves as exciting vibrant places to liv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9482040" y="6699240"/>
            <a:ext cx="6573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50800" y="355320"/>
            <a:ext cx="90583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000000"/>
                </a:solidFill>
                <a:uFillTx/>
                <a:latin typeface="Arial"/>
              </a:rPr>
              <a:t>Sustainable cit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80880" y="1574280"/>
            <a:ext cx="93981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intain population, particularly economically active people. Develop human resource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conomic growth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frastructure and urban service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uality of life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nvironmental impact. Ecological footprint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ircular metabolism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reen design and architecture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nergy efficiencies. Carbon neutral city. (Masdar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9482040" y="6699240"/>
            <a:ext cx="6573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4108320" y="2759040"/>
            <a:ext cx="5753160" cy="19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nward Movement (Centripetal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ural to urban migration, gentrification, re-urbanisation, urban renew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976320" y="727200"/>
            <a:ext cx="83772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Urban Processes can be seen as inward and outward mov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158760" y="4052880"/>
            <a:ext cx="3916440" cy="1525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158760" y="5661000"/>
            <a:ext cx="3841920" cy="785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3"/>
          <a:stretch/>
        </p:blipFill>
        <p:spPr>
          <a:xfrm>
            <a:off x="231840" y="3206880"/>
            <a:ext cx="3843360" cy="784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>
            <a:off x="4108320" y="5384880"/>
            <a:ext cx="583740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Outward Movement (Centrifugal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burbanisation, urban sprawl, counter-urbanisation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433440" y="3724200"/>
            <a:ext cx="2414520" cy="5317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487440" y="3786120"/>
            <a:ext cx="23032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Urbanis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3787920" y="2444760"/>
            <a:ext cx="3060720" cy="530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3848040" y="2505240"/>
            <a:ext cx="2944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uburbanis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8" descr=""/>
          <p:cNvPicPr/>
          <p:nvPr/>
        </p:nvPicPr>
        <p:blipFill>
          <a:blip r:embed="rId3"/>
          <a:stretch/>
        </p:blipFill>
        <p:spPr>
          <a:xfrm>
            <a:off x="7545240" y="3238560"/>
            <a:ext cx="2351160" cy="9428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7607160" y="3305160"/>
            <a:ext cx="22258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unter -urbanis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4"/>
          <a:stretch/>
        </p:blipFill>
        <p:spPr>
          <a:xfrm>
            <a:off x="4560840" y="6168960"/>
            <a:ext cx="3218040" cy="5414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1"/>
          <p:cNvSpPr/>
          <p:nvPr/>
        </p:nvSpPr>
        <p:spPr>
          <a:xfrm>
            <a:off x="4619520" y="6235560"/>
            <a:ext cx="3106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 - urbanis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2241720" y="420840"/>
            <a:ext cx="607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Urban Proce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3" descr=""/>
          <p:cNvPicPr/>
          <p:nvPr/>
        </p:nvPicPr>
        <p:blipFill>
          <a:blip r:embed="rId5"/>
          <a:stretch/>
        </p:blipFill>
        <p:spPr>
          <a:xfrm>
            <a:off x="6835680" y="2698920"/>
            <a:ext cx="1886040" cy="550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"/>
          <p:cNvPicPr/>
          <p:nvPr/>
        </p:nvPicPr>
        <p:blipFill>
          <a:blip r:embed="rId6"/>
          <a:stretch/>
        </p:blipFill>
        <p:spPr>
          <a:xfrm>
            <a:off x="1628640" y="2666880"/>
            <a:ext cx="2171880" cy="1069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"/>
          <p:cNvPicPr/>
          <p:nvPr/>
        </p:nvPicPr>
        <p:blipFill>
          <a:blip r:embed="rId7"/>
          <a:stretch/>
        </p:blipFill>
        <p:spPr>
          <a:xfrm>
            <a:off x="7767720" y="4168800"/>
            <a:ext cx="965160" cy="2298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"/>
          <p:cNvPicPr/>
          <p:nvPr/>
        </p:nvPicPr>
        <p:blipFill>
          <a:blip r:embed="rId8"/>
          <a:stretch/>
        </p:blipFill>
        <p:spPr>
          <a:xfrm>
            <a:off x="4307040" y="5280120"/>
            <a:ext cx="763560" cy="1166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" descr=""/>
          <p:cNvPicPr/>
          <p:nvPr/>
        </p:nvPicPr>
        <p:blipFill>
          <a:blip r:embed="rId9"/>
          <a:stretch/>
        </p:blipFill>
        <p:spPr>
          <a:xfrm>
            <a:off x="422280" y="3132000"/>
            <a:ext cx="806400" cy="561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"/>
          <p:cNvPicPr/>
          <p:nvPr/>
        </p:nvPicPr>
        <p:blipFill>
          <a:blip r:embed="rId10"/>
          <a:stretch/>
        </p:blipFill>
        <p:spPr>
          <a:xfrm>
            <a:off x="422280" y="2540160"/>
            <a:ext cx="806400" cy="561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"/>
          <p:cNvPicPr/>
          <p:nvPr/>
        </p:nvPicPr>
        <p:blipFill>
          <a:blip r:embed="rId11"/>
          <a:stretch/>
        </p:blipFill>
        <p:spPr>
          <a:xfrm>
            <a:off x="5587920" y="6772320"/>
            <a:ext cx="804960" cy="561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" descr=""/>
          <p:cNvPicPr/>
          <p:nvPr/>
        </p:nvPicPr>
        <p:blipFill>
          <a:blip r:embed="rId12"/>
          <a:stretch/>
        </p:blipFill>
        <p:spPr>
          <a:xfrm>
            <a:off x="9080640" y="4200480"/>
            <a:ext cx="804600" cy="573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1" descr=""/>
          <p:cNvPicPr/>
          <p:nvPr/>
        </p:nvPicPr>
        <p:blipFill>
          <a:blip r:embed="rId13"/>
          <a:stretch/>
        </p:blipFill>
        <p:spPr>
          <a:xfrm>
            <a:off x="5238720" y="1809720"/>
            <a:ext cx="804960" cy="561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"/>
          <p:cNvPicPr/>
          <p:nvPr/>
        </p:nvPicPr>
        <p:blipFill>
          <a:blip r:embed="rId14"/>
          <a:stretch/>
        </p:blipFill>
        <p:spPr>
          <a:xfrm>
            <a:off x="6434280" y="6772320"/>
            <a:ext cx="804600" cy="561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3" descr=""/>
          <p:cNvPicPr/>
          <p:nvPr/>
        </p:nvPicPr>
        <p:blipFill>
          <a:blip r:embed="rId15"/>
          <a:stretch/>
        </p:blipFill>
        <p:spPr>
          <a:xfrm>
            <a:off x="9080640" y="4762440"/>
            <a:ext cx="804600" cy="571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4" descr=""/>
          <p:cNvPicPr/>
          <p:nvPr/>
        </p:nvPicPr>
        <p:blipFill>
          <a:blip r:embed="rId16"/>
          <a:stretch/>
        </p:blipFill>
        <p:spPr>
          <a:xfrm>
            <a:off x="6032520" y="1809720"/>
            <a:ext cx="816120" cy="561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5" descr=""/>
          <p:cNvPicPr/>
          <p:nvPr/>
        </p:nvPicPr>
        <p:blipFill>
          <a:blip r:embed="rId17"/>
          <a:stretch/>
        </p:blipFill>
        <p:spPr>
          <a:xfrm>
            <a:off x="3629160" y="4222800"/>
            <a:ext cx="2817720" cy="10792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26"/>
          <p:cNvSpPr/>
          <p:nvPr/>
        </p:nvSpPr>
        <p:spPr>
          <a:xfrm>
            <a:off x="3691080" y="4289400"/>
            <a:ext cx="269388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stainable cit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7" descr=""/>
          <p:cNvPicPr/>
          <p:nvPr/>
        </p:nvPicPr>
        <p:blipFill>
          <a:blip r:embed="rId18"/>
          <a:stretch/>
        </p:blipFill>
        <p:spPr>
          <a:xfrm>
            <a:off x="5334120" y="3639960"/>
            <a:ext cx="804600" cy="5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5"/>
          <p:cNvSpPr/>
          <p:nvPr/>
        </p:nvSpPr>
        <p:spPr>
          <a:xfrm>
            <a:off x="355680" y="457200"/>
            <a:ext cx="9144000" cy="66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Urbanization is the increase in the percentage of a population living in settlements which could be classified as urban area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50800" y="355320"/>
            <a:ext cx="90583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000000"/>
                </a:solidFill>
                <a:uFillTx/>
                <a:latin typeface="Arial"/>
              </a:rPr>
              <a:t>Reasons for Urbanis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550800" y="1828800"/>
            <a:ext cx="905832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ntries reach stage 2/3 of DT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ural increase in pop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ral to urban migration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push/pull factors, obstacles/barriers, Stepwise model, Zelinsky’s model, Lee’s Model, Turners model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ustrial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9312120" y="584208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50800" y="355320"/>
            <a:ext cx="90583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000000"/>
                </a:solidFill>
                <a:uFillTx/>
                <a:latin typeface="Arial"/>
              </a:rPr>
              <a:t>Urbanis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241200" y="1828800"/>
            <a:ext cx="936792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ads to urban growth (the expansion of cities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imate citie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entres of production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eed for housing, and other urban servic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formal sector, public housing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w mainly LEDCs and NIC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507960" y="5181480"/>
            <a:ext cx="9379080" cy="12193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736560" y="5334120"/>
            <a:ext cx="838188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– Urban growth is the growth of cities in terms of size of land area and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9482040" y="6699240"/>
            <a:ext cx="6573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6"/>
          <p:cNvSpPr/>
          <p:nvPr/>
        </p:nvSpPr>
        <p:spPr>
          <a:xfrm>
            <a:off x="355680" y="533520"/>
            <a:ext cx="8839080" cy="60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urbanization is the increase in the numbers of people living in the residential areas near the edge of the city (suburbs) leading to the outward growth of urban area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50800" y="355320"/>
            <a:ext cx="90583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000000"/>
                </a:solidFill>
                <a:uFillTx/>
                <a:latin typeface="Arial"/>
              </a:rPr>
              <a:t>Reasons for suburbanis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50800" y="1828800"/>
            <a:ext cx="905832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pid urban growth leads new residential areas being built in suburb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problems and overcrowding in inner city areas cause richer people to move to suburb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roving public trans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nked to de-industrialization such as shipbuilding, warehouses or factories clo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9482040" y="6699240"/>
            <a:ext cx="6573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50800" y="355320"/>
            <a:ext cx="90583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000000"/>
                </a:solidFill>
                <a:uFillTx/>
                <a:latin typeface="Arial"/>
              </a:rPr>
              <a:t>Suburbanis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50800" y="1828800"/>
            <a:ext cx="9058320" cy="54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ban spraw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arate smaller settlements merge into larger multi-centric conurb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sure on rural/urban fri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ased se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vicious circle of decline in inner city areas. “Donut citie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9482040" y="6699240"/>
            <a:ext cx="6573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3:07:39Z</dcterms:created>
  <dc:creator>Google</dc:creator>
  <dc:description/>
  <dc:language>en-US</dc:language>
  <cp:lastModifiedBy>Phil Randay</cp:lastModifiedBy>
  <dcterms:modified xsi:type="dcterms:W3CDTF">2010-09-02T14:49:52Z</dcterms:modified>
  <cp:revision>4</cp:revision>
  <dc:subject/>
  <dc:title>PowerPoint Presentation</dc:title>
</cp:coreProperties>
</file>