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26F-EDE3-4F5D-A53B-5C3AC9F9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3C5-5898-47DF-97E8-ECB4CAAF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FDE-E63E-4D16-9C07-A0582F7A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B67-76DB-44EC-B83E-641FBD84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C8B-BEC1-4970-A7FA-47D751ED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27B-83DA-4950-A5FA-AD8FE3CC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9D6-ECE1-48A5-B00B-DC53FEAC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B22-43B9-4384-8E6D-16FAFDAA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F9D-F138-4537-8EF0-CBACED8E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DAC-8136-4EBC-9BDA-66BDB197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BFE-E25E-4B69-9865-01CEC085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3B9-C12E-4F6E-9C7C-424F0577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88FA-B66C-4477-ACD8-E8B7E2454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21200" y="4286160"/>
            <a:ext cx="5238720" cy="3333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286160"/>
            <a:ext cx="5165640" cy="3333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989680" y="0"/>
            <a:ext cx="4170240" cy="4297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603840" cy="443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152360" y="3724200"/>
            <a:ext cx="7612200" cy="119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03480" y="3781440"/>
            <a:ext cx="751356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rban stress and sustainable solutions in LEDC c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84440" y="7140600"/>
            <a:ext cx="247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iro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4720" y="7059600"/>
            <a:ext cx="1830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xico 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4480" y="339840"/>
            <a:ext cx="215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ngh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739800"/>
            <a:ext cx="215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500040"/>
            <a:ext cx="927072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 are the challenges facing your LEDC c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using the urban po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deprivation, crime and inequa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ir / water pollu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te manag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ter and food supp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blic 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3005280"/>
            <a:ext cx="57783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23920" y="579600"/>
            <a:ext cx="791208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have the problems develope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impact on the city? (environmental, economic, soci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38400" y="2529000"/>
            <a:ext cx="736596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65200" y="579600"/>
            <a:ext cx="902952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is your city attempting to manage the problems it fa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you find an example in your city of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ly sustainable housing management strateg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ironmentally sustainable pollution management strateg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trategy to control the growth of the c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so perhaps sustainable management related to social welfare, waste, energy, transport et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84200" y="660240"/>
            <a:ext cx="9271080" cy="44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ustainable Hou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done to provide socially sustainable housing for the urban poo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ffordable housing provided by government or private sect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pgrading squatter settle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lum clearance and relo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te and service schem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ans for people to buy hou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ther options in your chosen cit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75520" y="2762280"/>
            <a:ext cx="31762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3200" y="339840"/>
            <a:ext cx="93535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valuation of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or example – a relocation and re-housing pro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ailability of lan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tance from employment for resi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st of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or standard of hou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ck of urban services provi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fabric of squatter settlement broken 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intless as residents of squatter settlements have already built their dwell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rnative is to upgrade existing squatter settlements and integrate them into the city. Favela Bairro projec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85840"/>
            <a:ext cx="1015992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