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F01D-C2D9-4D0A-BBAD-7E2C23EDE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3414-0792-45E0-960E-D18ACBB5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BBE6-B0CB-410E-92AC-48C64469B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1AF5-7E9D-4648-913A-1F47B725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5AE9-E0F6-4E0B-AA1E-CBDC1725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24F9-2382-4D7D-9120-72FD4306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5EC9-FC6A-42FF-876B-E81C349D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0689-5060-4112-80C5-2C0AE41F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F7E6-EA1B-4131-9E2A-8A1E18DC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0871-180B-4D75-A757-926EEBD0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B493-CD54-4FB4-90F9-26DB4B7D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3D23-888D-4150-A182-EA71F42F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8D69-AB89-495A-BBEE-EB7269F5D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921200" y="4286160"/>
            <a:ext cx="5238720" cy="33339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4286160"/>
            <a:ext cx="5165640" cy="3333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989680" y="0"/>
            <a:ext cx="4170240" cy="4297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6603840" cy="4435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1152360" y="3724200"/>
            <a:ext cx="7612200" cy="1198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03480" y="3781440"/>
            <a:ext cx="751356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rban stress and sustainable solutions in LEDC c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84440" y="7140600"/>
            <a:ext cx="247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irob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24720" y="7059600"/>
            <a:ext cx="1830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xico 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764480" y="339840"/>
            <a:ext cx="2151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ngh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63640" y="739800"/>
            <a:ext cx="2151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500040"/>
            <a:ext cx="9270720" cy="45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hat are the challenges facing your LEDC cit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using the urban po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cial deprivation, crime and inequal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mploy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ir / water pollu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ste manage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ter and food suppl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ublic spa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191120" y="3005280"/>
            <a:ext cx="577836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23920" y="579600"/>
            <a:ext cx="791208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have the problems developed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the impact on the city? (environmental, economic, soci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38400" y="2529000"/>
            <a:ext cx="736596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65200" y="579600"/>
            <a:ext cx="9029520" cy="45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ow is your city attempting to manage the problems it fac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you find an example in your city of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cially sustainable housing management strateg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ironmentally sustainable pollution management strateg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strategy to control the growth of the cit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so perhaps sustainable management related to social welfare, waste, energy, transport et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84200" y="660240"/>
            <a:ext cx="9271080" cy="44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ustainable Hou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is done to provide socially sustainable housing for the urban poor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ffordable housing provided by government or private sect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pgrading squatter settlem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lum clearance and reloc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te and service schem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oans for people to buy hous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ther options in your chosen city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275520" y="2762280"/>
            <a:ext cx="317628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03200" y="339840"/>
            <a:ext cx="935352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valuation of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For example – a relocation and re-housing proje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vailability of land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stance from employment for resid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st of projec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or standard of hous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ck of urban services provid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cial fabric of squatter settlement broken u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intless as residents of squatter settlements have already built their dwelling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ternative is to upgrade existing squatter settlements and integrate them into the city. Favela Bairro projec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85840"/>
            <a:ext cx="10159920" cy="71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