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3A0-E0F4-40FF-8690-10272496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E12D-E70C-4FBD-A27D-723DAAAC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04B-AD4D-4B58-9CF7-5B631865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C4D1-73E6-4E88-B0DF-9C8E15F8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ECB-7D9D-48B0-A7F4-5802D4AC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047-D0DF-400B-940E-47B1077C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76C-7BF1-46A2-A561-0FB57D62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D21-E23C-4333-8277-3D16ADC4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2C8-DE51-4CFA-A36C-6B2AC381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A25-F99D-4864-9213-D78D4936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FE0-43D6-4838-81B2-043BC260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B20-5B4F-4BCA-AC47-4C58C2D9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67C9-2D1A-412F-8253-0EF6E1490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21200" y="4286160"/>
            <a:ext cx="5238720" cy="3333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286160"/>
            <a:ext cx="5165640" cy="3333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989680" y="0"/>
            <a:ext cx="4170240" cy="4297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6603840" cy="4435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152360" y="3724200"/>
            <a:ext cx="7612200" cy="119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03480" y="3781440"/>
            <a:ext cx="751356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rban stress and sustainable solutions in LEDC c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84440" y="7140600"/>
            <a:ext cx="247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iro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24720" y="7059600"/>
            <a:ext cx="1830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xico 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64480" y="339840"/>
            <a:ext cx="215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ngh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63640" y="739800"/>
            <a:ext cx="215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500040"/>
            <a:ext cx="927072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at are the challenges facing your LEDC c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using the urban po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 deprivation, crime and inequal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ir / water pollu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te manag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ter and food supp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blic 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91120" y="3005280"/>
            <a:ext cx="57783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23920" y="579600"/>
            <a:ext cx="791208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have the problems developed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impact on the city? (environmental, economic, soci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38400" y="2529000"/>
            <a:ext cx="736596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65200" y="579600"/>
            <a:ext cx="902952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is your city attempting to manage the problems it fac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you find an example in your city of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ly sustainable housing management strateg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ironmentally sustainable pollution management strateg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strategy to control the growth of the cit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so perhaps sustainable management related to social welfare, waste, energy, transport et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84200" y="660240"/>
            <a:ext cx="9271080" cy="44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ustainable Hou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done to provide socially sustainable housing for the urban poor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ffordable housing provided by government or private sect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pgrading squatter settle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lum clearance and reloc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te and service schem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ans for people to buy hous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ther options in your chosen cit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75520" y="2762280"/>
            <a:ext cx="317628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03200" y="339840"/>
            <a:ext cx="935352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valuation of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For example – a relocation and re-housing proj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ailability of lan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tance from employment for resi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st of proje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or standard of hous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ck of urban services provi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 fabric of squatter settlement broken 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intless as residents of squatter settlements have already built their dwell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ernative is to upgrade existing squatter settlements and integrate them into the city. Favela Bairro projec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85840"/>
            <a:ext cx="1015992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