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jpeg" ContentType="image/jpeg"/>
  <Override PartName="/ppt/media/image26.wmf" ContentType="image/x-wmf"/>
  <Override PartName="/ppt/media/image25.wmf" ContentType="image/x-wmf"/>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1.png" ContentType="image/png"/>
  <Override PartName="/ppt/media/image19.jpeg" ContentType="image/jpeg"/>
  <Override PartName="/ppt/media/image7.png" ContentType="image/png"/>
  <Override PartName="/ppt/media/image34.jpeg" ContentType="image/jpeg"/>
  <Override PartName="/ppt/media/image38.wmf" ContentType="image/x-wmf"/>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2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6.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14.png" ContentType="image/png"/>
  <Override PartName="/ppt/media/image16.png" ContentType="image/png"/>
  <Override PartName="/ppt/media/image15.png" ContentType="image/png"/>
  <Override PartName="/ppt/media/image1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946D-8FD7-4107-9F53-EC6B3CE813B9}" type="datetime">
              <a:rPr b="0" lang="es-MX"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9572-9B9C-4E84-93C8-48C2D8ACD9DC}"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reduction of high mortalit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ity of fertility decline has earned Bangladesh a ‘demographic bonus’, and 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 Bangladesh today can claim one of the highest growth rates in per capita incom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low-income countries of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44 of 175 poorest count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ive Year Plan (1973-78). Lowering the birth rate was seen as the goal of population policy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service delivery through a national family planning program was see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means of achieving that goal. promote the two-child norm and legitimize the use of modern methods of contra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tility rates did lower and it started to encourage people in Bangladesh to use modern birth control techn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ed because there was lack of effort and money from government. It was impossible to serve the whole nation with contraceptiv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she contributed a lot on a program called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      2025           20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aimed for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target 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FC1E6-C4EF-46FF-96EF-79D2BA5ED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019F0-A806-43EB-819E-9F4F71801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345CDB-F1D5-48DF-9E75-0E7B59E523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220C97-AF04-4921-87EE-B71F3FFCD8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513E31-F8CF-464A-B40A-2048C5B231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9F295-7B3F-4F81-8151-46CC198AB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13792-C63C-4A59-B9E0-BDE7355FCD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D00B7-2892-4E63-BF05-14815AB8AB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F92641-0AC4-49C1-A166-804D07FE8E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5989F0-0F1D-44A1-8F66-23B0A39BB9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A38F29-1DD2-4AB5-B3F2-EF5E1C5265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421B0-513E-44E8-985E-5DAABDECB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B5AC0-9E86-40DB-A80E-874898535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11C68-D681-4FB0-8EDE-3E8DEB5D2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FB8A3-D412-47C5-8E6E-3756D78B4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A6B3E-03C2-44E2-BC31-452D6720D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20678-AA05-47D4-B3E4-8BC574079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A928A-2E89-46B9-8E02-A31661B32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34B88-6B6B-486A-97B4-87EE90ACA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0F97D-A68B-47C2-ACB1-752235DDB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B9FA8-1273-4D22-94FF-41A641064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F6315-B41C-4B44-8055-4DD1059E3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526FE-B0FE-4726-A35E-4DAB340BD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44043-F6DB-418D-B7EC-36EC0AF7A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83250-C058-45E8-9FDD-CD2439659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8B266-8465-4471-8F88-95B4D38D3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858C67-C20D-469C-8C1D-F1323B91D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537AD-6170-4872-979B-A06B877B4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E31C63-DD90-46E4-AFCE-46B34D2D5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1DE15-AD76-47F3-9819-E2CEB0269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D2A9A-2E2B-4AD5-A09C-1B8BB017B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90842-6454-4359-A9B7-763C445AB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FDC43-AF37-4132-BF76-8DA5B35B3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53E1D-4DCC-4EB1-8591-FE26A2A22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63610-4768-4874-8CB3-3CEE189EBC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97990-61C9-4D5A-8265-BC859EB38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6CC91-A64A-4D44-8993-886A7F8F02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67E7FC-1065-4C5F-81DE-DE1FC94654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D8249B-711F-42A6-AAD2-9B661A984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EE76FA-D922-4B9C-B139-763BA31DD9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E3924-BC24-4FB8-8553-707C7BFA4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B986F9-18A8-4824-9D01-166FF4F0B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9D6CD-6B37-4451-B1F4-CAA2C7F8B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5A79B-9789-4FF0-A98A-5C54704B0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1E21D-0AFD-4099-A50A-C66A989BD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8F3FE1-8979-4B60-933D-18C012B15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79610-030A-415B-9DC1-7EA95CA56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D223B-F040-40E9-90D0-DA19F2E47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03448-CA4C-4251-BCDD-541B91EBC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D53E2-7103-433C-B191-C8325ADCE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955C31-3B6F-484D-8EC4-1F3A71BAE1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B07C6D-E3ED-4956-A4EF-9AF5E99E84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CC9E5B-3190-4723-9F38-08A96D4C85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24A29-93BD-4BD0-AEA1-D62C64A09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B1AA45-4136-474A-9668-EAB1310AE0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1C0F92-B1D6-4FAE-AD4F-AF72ABC78A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D26A07-8666-498C-AAEA-C9B382EF5C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B2811F-6F03-4BF5-83B8-FF7D4BF1C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29DC01-6FFA-4827-BCEA-EF6F0C8DE6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07E54-A1DA-4C46-9115-FB2C0C4A2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C7878-D9A8-4F72-A548-8682ECC71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9E3FC-5FED-48DA-BC55-B5C4A1C17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A95147-E9AB-4207-8EB1-3AFDEABE71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F7160F-C722-4FE2-86F8-00F51532D1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B39BA-AE0E-469C-B418-CD7E1F08B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236C2E-3967-446C-94C3-2016D7E21D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070381-4BD2-45D5-A8A8-D42E1C1BAE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7D7E3D-2A2C-4752-B481-1C37FD9C49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F49D55-5A12-4C06-B917-0AE8F0E5C9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683B92-EB04-4ADD-B065-896834B66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1ECDE-0F61-48C5-A996-AFD260EE8E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FC2F80-A049-4A3A-9524-EDF818C07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50DA3-C874-42C5-B8AD-476145502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AC538-8881-438F-9556-DB3B2E873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91E315-F0A3-44EA-B7E2-5279EA5E5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CBB53-C753-4720-9184-E886CFB2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C98670-0779-4A33-9189-D7A39945F2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C7065A-A27F-4974-BE91-F8333646BE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FAEBB9-E0E6-4222-B2CA-5046032132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34D213-A44B-45A1-9914-7672AB8863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D7D237-05EF-4D84-AF60-347FE09A57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FAE492-8107-4D06-9B62-D8D29B4CA0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C7E246-D013-4FB7-BA7E-910CCF4E67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6291A6-7170-4253-98BE-7CA61BC583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B9ADF-4A12-4F00-8DC6-EFF3E9575F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662FB-D52F-471B-B565-A83161F36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8F980-C094-43E3-A31C-067CE0FC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6A387-8213-4A57-BA65-22EDD5CC4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75DD9-114E-4F9D-936A-6C237BBF64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C2A0CC-A0C8-47F0-AE98-482DAD32FD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FC7AF8-4D2C-4CE4-9724-F3C94F877D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B8C2AC-DC9F-4985-ABA7-6623424AAA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DF988B-B61E-4CF0-A3F9-D2279566C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ADBD00-1A36-43F3-8F11-7750559B76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FD4CC1-E4ED-469D-9E85-126B5DF7E7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2E6CF3-5A4E-43B7-ADF9-357A57E82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ACC3E-3BD8-4695-982C-93ED07F09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8899-AF77-4F37-B8DC-CAB07321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1E1AEC-E67A-4F49-8BB4-EEBE350B80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E970D7-F255-4438-9759-7EC484CA2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DF0D4-A09F-479A-B46E-9465B5A12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65A894-2458-49B4-B503-0E8B374BB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5D9BF8-C917-4D21-96EA-EB0B02F0D1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D03DFD-88F9-4E6C-81B2-69B4F1D885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5FCCA5-FE1E-49FC-BC36-6512864A02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46509E-B682-4AA9-A7E8-27D9D74A92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4DD7B6-4D5C-4D3A-9CE6-5F620A21FF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3B71E7-8641-40DE-A3F9-94356B0C29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73DE-95C5-4EBD-BA6F-DF7B01418CBC}"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CCD3-F67B-4CAE-813C-9F6E1949078F}"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D505-B0EE-4C9B-A5DF-DB0B7EEF2A19}"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2DA0-83A4-4ECC-8FB6-C3EC6F26562F}"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72FD-463E-4EB2-BC93-ED22849C71A0}"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9254-8D14-4D71-B2EE-47806ABEEAC9}"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922A-2397-412A-AA18-B81640F8DFAA}"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4AA6-F678-4AAC-9313-78354ABA98AC}"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1539-1D34-439A-B4A3-AABE5AAD1BC8}"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F481-AF6C-487C-A5E7-296020FA185F}"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7FAF-265E-4DF1-BD9A-0074383240BE}"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3D00-1328-4990-9FA0-6AF570ABC693}"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74FF-00BD-4136-9F8B-5979C769C4DD}"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A6DE-5973-4F94-A9FD-2F895F6D6BC5}"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094F-4DFC-4444-9FDE-1D5F55D115A0}"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A4BC-9297-43D2-9E76-41FE967A8E5A}"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C550-97A0-4EB7-80B7-947D5020CBC8}" type="datetime">
              <a:rPr b="0" lang="es-MX" sz="1200" spc="-1" strike="noStrike">
                <a:solidFill>
                  <a:srgbClr val="b8563f"/>
                </a:solidFill>
                <a:latin typeface="Franklin Gothic Book"/>
              </a:rPr>
              <a:t>30/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A12F-286F-4F8D-B157-CFC5632B9EB7}"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image" Target="../media/image28.jpeg"/><Relationship Id="rId15" Type="http://schemas.openxmlformats.org/officeDocument/2006/relationships/image" Target="../media/image28.jpeg"/><Relationship Id="rId16" Type="http://schemas.openxmlformats.org/officeDocument/2006/relationships/image" Target="../media/image28.jpeg"/><Relationship Id="rId17" Type="http://schemas.openxmlformats.org/officeDocument/2006/relationships/image" Target="../media/image28.jpeg"/><Relationship Id="rId18" Type="http://schemas.openxmlformats.org/officeDocument/2006/relationships/slideLayout" Target="../slideLayouts/slideLayout25.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281160"/>
            <a:ext cx="6804000" cy="1766880"/>
          </a:xfrm>
          <a:prstGeom prst="rect">
            <a:avLst/>
          </a:prstGeom>
          <a:ln w="0">
            <a:noFill/>
          </a:ln>
        </p:spPr>
      </p:pic>
      <p:pic>
        <p:nvPicPr>
          <p:cNvPr id="408" name="Rectangle 8" descr=""/>
          <p:cNvPicPr/>
          <p:nvPr/>
        </p:nvPicPr>
        <p:blipFill>
          <a:blip r:embed="rId4"/>
          <a:stretch/>
        </p:blipFill>
        <p:spPr>
          <a:xfrm>
            <a:off x="2992320" y="5565600"/>
            <a:ext cx="2932200" cy="9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6" name="Picture 5" descr="dea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9" name="Picture 5" descr="bangladesh-independence-08-3-medium"/>
          <p:cNvPicPr/>
          <p:nvPr/>
        </p:nvPicPr>
        <p:blipFill>
          <a:blip r:embed="rId2"/>
          <a:stretch/>
        </p:blipFill>
        <p:spPr>
          <a:xfrm>
            <a:off x="539640" y="2565360"/>
            <a:ext cx="2725920" cy="3719520"/>
          </a:xfrm>
          <a:prstGeom prst="rect">
            <a:avLst/>
          </a:prstGeom>
          <a:ln w="0">
            <a:noFill/>
          </a:ln>
        </p:spPr>
      </p:pic>
      <p:pic>
        <p:nvPicPr>
          <p:cNvPr id="440" name="Picture 7" descr="001653"/>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3" name="Picture 5" descr="MC900055300[1]"/>
          <p:cNvPicPr/>
          <p:nvPr/>
        </p:nvPicPr>
        <p:blipFill>
          <a:blip r:embed="rId2"/>
          <a:stretch/>
        </p:blipFill>
        <p:spPr>
          <a:xfrm>
            <a:off x="611280" y="2276640"/>
            <a:ext cx="2808360" cy="2401560"/>
          </a:xfrm>
          <a:prstGeom prst="rect">
            <a:avLst/>
          </a:prstGeom>
          <a:ln w="0">
            <a:noFill/>
          </a:ln>
        </p:spPr>
      </p:pic>
      <p:pic>
        <p:nvPicPr>
          <p:cNvPr id="444" name="Picture 7" descr="MC900285958[1]"/>
          <p:cNvPicPr/>
          <p:nvPr/>
        </p:nvPicPr>
        <p:blipFill>
          <a:blip r:embed="rId3"/>
          <a:stretch/>
        </p:blipFill>
        <p:spPr>
          <a:xfrm>
            <a:off x="900000" y="4797360"/>
            <a:ext cx="1817640" cy="1797120"/>
          </a:xfrm>
          <a:prstGeom prst="rect">
            <a:avLst/>
          </a:prstGeom>
          <a:ln w="0">
            <a:noFill/>
          </a:ln>
        </p:spPr>
      </p:pic>
      <p:pic>
        <p:nvPicPr>
          <p:cNvPr id="445" name="Picture 42" descr="MC900432671[1]"/>
          <p:cNvPicPr/>
          <p:nvPr/>
        </p:nvPicPr>
        <p:blipFill>
          <a:blip r:embed="rId4"/>
          <a:stretch/>
        </p:blipFill>
        <p:spPr>
          <a:xfrm>
            <a:off x="3348000" y="2852640"/>
            <a:ext cx="1567080" cy="1567080"/>
          </a:xfrm>
          <a:prstGeom prst="rect">
            <a:avLst/>
          </a:prstGeom>
          <a:ln w="0">
            <a:noFill/>
          </a:ln>
        </p:spPr>
      </p:pic>
      <p:pic>
        <p:nvPicPr>
          <p:cNvPr id="446" name="Picture 43" descr="MC900432671[1]"/>
          <p:cNvPicPr/>
          <p:nvPr/>
        </p:nvPicPr>
        <p:blipFill>
          <a:blip r:embed="rId5"/>
          <a:stretch/>
        </p:blipFill>
        <p:spPr>
          <a:xfrm>
            <a:off x="2627280" y="5013360"/>
            <a:ext cx="1566720" cy="1566720"/>
          </a:xfrm>
          <a:prstGeom prst="rect">
            <a:avLst/>
          </a:prstGeom>
          <a:ln w="0">
            <a:noFill/>
          </a:ln>
        </p:spPr>
      </p:pic>
      <p:pic>
        <p:nvPicPr>
          <p:cNvPr id="447" name="Picture 45" descr="ANd9GcSy5w8EKlRmOBrOwrVSaBb8YiZPd7sc-JkTuUptPoIYnG77sPM&amp;t=1&amp;usg=__yaKD2x9A1csGWd_ArUpQTn-cY00="/>
          <p:cNvPicPr/>
          <p:nvPr/>
        </p:nvPicPr>
        <p:blipFill>
          <a:blip r:embed="rId6"/>
          <a:stretch/>
        </p:blipFill>
        <p:spPr>
          <a:xfrm>
            <a:off x="4932360" y="2492280"/>
            <a:ext cx="525600" cy="733680"/>
          </a:xfrm>
          <a:prstGeom prst="rect">
            <a:avLst/>
          </a:prstGeom>
          <a:ln w="0">
            <a:noFill/>
          </a:ln>
        </p:spPr>
      </p:pic>
      <p:pic>
        <p:nvPicPr>
          <p:cNvPr id="448" name="Picture 46" descr="ANd9GcSy5w8EKlRmOBrOwrVSaBb8YiZPd7sc-JkTuUptPoIYnG77sPM&amp;t=1&amp;usg=__yaKD2x9A1csGWd_ArUpQTn-cY00="/>
          <p:cNvPicPr/>
          <p:nvPr/>
        </p:nvPicPr>
        <p:blipFill>
          <a:blip r:embed="rId7"/>
          <a:stretch/>
        </p:blipFill>
        <p:spPr>
          <a:xfrm>
            <a:off x="4932360" y="3500280"/>
            <a:ext cx="525600" cy="733680"/>
          </a:xfrm>
          <a:prstGeom prst="rect">
            <a:avLst/>
          </a:prstGeom>
          <a:ln w="0">
            <a:noFill/>
          </a:ln>
        </p:spPr>
      </p:pic>
      <p:pic>
        <p:nvPicPr>
          <p:cNvPr id="449" name="Picture 47" descr="ANd9GcSy5w8EKlRmOBrOwrVSaBb8YiZPd7sc-JkTuUptPoIYnG77sPM&amp;t=1&amp;usg=__yaKD2x9A1csGWd_ArUpQTn-cY00="/>
          <p:cNvPicPr/>
          <p:nvPr/>
        </p:nvPicPr>
        <p:blipFill>
          <a:blip r:embed="rId8"/>
          <a:stretch/>
        </p:blipFill>
        <p:spPr>
          <a:xfrm>
            <a:off x="5651640" y="2492280"/>
            <a:ext cx="525240" cy="733680"/>
          </a:xfrm>
          <a:prstGeom prst="rect">
            <a:avLst/>
          </a:prstGeom>
          <a:ln w="0">
            <a:noFill/>
          </a:ln>
        </p:spPr>
      </p:pic>
      <p:pic>
        <p:nvPicPr>
          <p:cNvPr id="450" name="Picture 48" descr="ANd9GcSy5w8EKlRmOBrOwrVSaBb8YiZPd7sc-JkTuUptPoIYnG77sPM&amp;t=1&amp;usg=__yaKD2x9A1csGWd_ArUpQTn-cY00="/>
          <p:cNvPicPr/>
          <p:nvPr/>
        </p:nvPicPr>
        <p:blipFill>
          <a:blip r:embed="rId9"/>
          <a:stretch/>
        </p:blipFill>
        <p:spPr>
          <a:xfrm>
            <a:off x="5651640" y="3500280"/>
            <a:ext cx="525240" cy="733680"/>
          </a:xfrm>
          <a:prstGeom prst="rect">
            <a:avLst/>
          </a:prstGeom>
          <a:ln w="0">
            <a:noFill/>
          </a:ln>
        </p:spPr>
      </p:pic>
      <p:pic>
        <p:nvPicPr>
          <p:cNvPr id="451" name="Picture 49" descr="ANd9GcSy5w8EKlRmOBrOwrVSaBb8YiZPd7sc-JkTuUptPoIYnG77sPM&amp;t=1&amp;usg=__yaKD2x9A1csGWd_ArUpQTn-cY00="/>
          <p:cNvPicPr/>
          <p:nvPr/>
        </p:nvPicPr>
        <p:blipFill>
          <a:blip r:embed="rId10"/>
          <a:stretch/>
        </p:blipFill>
        <p:spPr>
          <a:xfrm>
            <a:off x="4140360" y="5013360"/>
            <a:ext cx="525240" cy="733320"/>
          </a:xfrm>
          <a:prstGeom prst="rect">
            <a:avLst/>
          </a:prstGeom>
          <a:ln w="0">
            <a:noFill/>
          </a:ln>
        </p:spPr>
      </p:pic>
      <p:pic>
        <p:nvPicPr>
          <p:cNvPr id="452" name="Picture 50" descr="ANd9GcSy5w8EKlRmOBrOwrVSaBb8YiZPd7sc-JkTuUptPoIYnG77sPM&amp;t=1&amp;usg=__yaKD2x9A1csGWd_ArUpQTn-cY00="/>
          <p:cNvPicPr/>
          <p:nvPr/>
        </p:nvPicPr>
        <p:blipFill>
          <a:blip r:embed="rId11"/>
          <a:stretch/>
        </p:blipFill>
        <p:spPr>
          <a:xfrm>
            <a:off x="4861080" y="5013360"/>
            <a:ext cx="525240" cy="733320"/>
          </a:xfrm>
          <a:prstGeom prst="rect">
            <a:avLst/>
          </a:prstGeom>
          <a:ln w="0">
            <a:noFill/>
          </a:ln>
        </p:spPr>
      </p:pic>
      <p:pic>
        <p:nvPicPr>
          <p:cNvPr id="453" name="Picture 51" descr="ANd9GcSy5w8EKlRmOBrOwrVSaBb8YiZPd7sc-JkTuUptPoIYnG77sPM&amp;t=1&amp;usg=__yaKD2x9A1csGWd_ArUpQTn-cY00="/>
          <p:cNvPicPr/>
          <p:nvPr/>
        </p:nvPicPr>
        <p:blipFill>
          <a:blip r:embed="rId12"/>
          <a:stretch/>
        </p:blipFill>
        <p:spPr>
          <a:xfrm>
            <a:off x="5580000" y="5013360"/>
            <a:ext cx="525600" cy="733320"/>
          </a:xfrm>
          <a:prstGeom prst="rect">
            <a:avLst/>
          </a:prstGeom>
          <a:ln w="0">
            <a:noFill/>
          </a:ln>
        </p:spPr>
      </p:pic>
      <p:pic>
        <p:nvPicPr>
          <p:cNvPr id="454" name="Picture 52" descr="ANd9GcSy5w8EKlRmOBrOwrVSaBb8YiZPd7sc-JkTuUptPoIYnG77sPM&amp;t=1&amp;usg=__yaKD2x9A1csGWd_ArUpQTn-cY00="/>
          <p:cNvPicPr/>
          <p:nvPr/>
        </p:nvPicPr>
        <p:blipFill>
          <a:blip r:embed="rId13"/>
          <a:stretch/>
        </p:blipFill>
        <p:spPr>
          <a:xfrm>
            <a:off x="6300720" y="5013360"/>
            <a:ext cx="525600" cy="733320"/>
          </a:xfrm>
          <a:prstGeom prst="rect">
            <a:avLst/>
          </a:prstGeom>
          <a:ln w="0">
            <a:noFill/>
          </a:ln>
        </p:spPr>
      </p:pic>
      <p:pic>
        <p:nvPicPr>
          <p:cNvPr id="455" name="Picture 53" descr="ANd9GcSy5w8EKlRmOBrOwrVSaBb8YiZPd7sc-JkTuUptPoIYnG77sPM&amp;t=1&amp;usg=__yaKD2x9A1csGWd_ArUpQTn-cY00="/>
          <p:cNvPicPr/>
          <p:nvPr/>
        </p:nvPicPr>
        <p:blipFill>
          <a:blip r:embed="rId14"/>
          <a:stretch/>
        </p:blipFill>
        <p:spPr>
          <a:xfrm>
            <a:off x="4140360" y="5877000"/>
            <a:ext cx="525240" cy="733320"/>
          </a:xfrm>
          <a:prstGeom prst="rect">
            <a:avLst/>
          </a:prstGeom>
          <a:ln w="0">
            <a:noFill/>
          </a:ln>
        </p:spPr>
      </p:pic>
      <p:pic>
        <p:nvPicPr>
          <p:cNvPr id="456" name="Picture 54" descr="ANd9GcSy5w8EKlRmOBrOwrVSaBb8YiZPd7sc-JkTuUptPoIYnG77sPM&amp;t=1&amp;usg=__yaKD2x9A1csGWd_ArUpQTn-cY00="/>
          <p:cNvPicPr/>
          <p:nvPr/>
        </p:nvPicPr>
        <p:blipFill>
          <a:blip r:embed="rId15"/>
          <a:stretch/>
        </p:blipFill>
        <p:spPr>
          <a:xfrm>
            <a:off x="4861080" y="5877000"/>
            <a:ext cx="525240" cy="733320"/>
          </a:xfrm>
          <a:prstGeom prst="rect">
            <a:avLst/>
          </a:prstGeom>
          <a:ln w="0">
            <a:noFill/>
          </a:ln>
        </p:spPr>
      </p:pic>
      <p:pic>
        <p:nvPicPr>
          <p:cNvPr id="457" name="Picture 55" descr="ANd9GcSy5w8EKlRmOBrOwrVSaBb8YiZPd7sc-JkTuUptPoIYnG77sPM&amp;t=1&amp;usg=__yaKD2x9A1csGWd_ArUpQTn-cY00="/>
          <p:cNvPicPr/>
          <p:nvPr/>
        </p:nvPicPr>
        <p:blipFill>
          <a:blip r:embed="rId16"/>
          <a:stretch/>
        </p:blipFill>
        <p:spPr>
          <a:xfrm>
            <a:off x="5580000" y="5877000"/>
            <a:ext cx="525600" cy="733320"/>
          </a:xfrm>
          <a:prstGeom prst="rect">
            <a:avLst/>
          </a:prstGeom>
          <a:ln w="0">
            <a:noFill/>
          </a:ln>
        </p:spPr>
      </p:pic>
      <p:pic>
        <p:nvPicPr>
          <p:cNvPr id="458" name="Picture 56" descr="ANd9GcSy5w8EKlRmOBrOwrVSaBb8YiZPd7sc-JkTuUptPoIYnG77sPM&amp;t=1&amp;usg=__yaKD2x9A1csGWd_ArUpQTn-cY00="/>
          <p:cNvPicPr/>
          <p:nvPr/>
        </p:nvPicPr>
        <p:blipFill>
          <a:blip r:embed="rId17"/>
          <a:stretch/>
        </p:blipFill>
        <p:spPr>
          <a:xfrm>
            <a:off x="6300720" y="5877000"/>
            <a:ext cx="525600" cy="733320"/>
          </a:xfrm>
          <a:prstGeom prst="rect">
            <a:avLst/>
          </a:prstGeom>
          <a:ln w="0">
            <a:noFill/>
          </a:ln>
        </p:spPr>
      </p:pic>
      <p:sp>
        <p:nvSpPr>
          <p:cNvPr id="459" name="Rectangle 57"/>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Arial"/>
            </a:endParaRPr>
          </a:p>
        </p:txBody>
      </p:sp>
      <p:sp>
        <p:nvSpPr>
          <p:cNvPr id="460" name="Rectangle 59"/>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3" name="Picture 7" descr="apollo_hospital_dhaka"/>
          <p:cNvPicPr/>
          <p:nvPr/>
        </p:nvPicPr>
        <p:blipFill>
          <a:blip r:embed="rId2"/>
          <a:stretch/>
        </p:blipFill>
        <p:spPr>
          <a:xfrm>
            <a:off x="6659640" y="2205000"/>
            <a:ext cx="2160360" cy="1389240"/>
          </a:xfrm>
          <a:prstGeom prst="rect">
            <a:avLst/>
          </a:prstGeom>
          <a:ln w="0">
            <a:noFill/>
          </a:ln>
        </p:spPr>
      </p:pic>
      <p:pic>
        <p:nvPicPr>
          <p:cNvPr id="464" name="Picture 9" descr="P395"/>
          <p:cNvPicPr/>
          <p:nvPr/>
        </p:nvPicPr>
        <p:blipFill>
          <a:blip r:embed="rId3"/>
          <a:stretch/>
        </p:blipFill>
        <p:spPr>
          <a:xfrm>
            <a:off x="250920" y="2997360"/>
            <a:ext cx="3816360" cy="2736720"/>
          </a:xfrm>
          <a:prstGeom prst="rect">
            <a:avLst/>
          </a:prstGeom>
          <a:ln w="0">
            <a:noFill/>
          </a:ln>
        </p:spPr>
      </p:pic>
      <p:pic>
        <p:nvPicPr>
          <p:cNvPr id="465" name="Picture 11" descr="ANd9GcTqUOMbU5mW1Z_TqSHXk2Cfv12jZQW6ABd2VkF-Q043QWUiR54&amp;t=1&amp;h=167&amp;w=222&amp;usg=__aSi76dLxVC0_g5-iwqJ1fmmko7A="/>
          <p:cNvPicPr/>
          <p:nvPr/>
        </p:nvPicPr>
        <p:blipFill>
          <a:blip r:embed="rId4"/>
          <a:stretch/>
        </p:blipFill>
        <p:spPr>
          <a:xfrm>
            <a:off x="4211640" y="2205000"/>
            <a:ext cx="2160720" cy="1417680"/>
          </a:xfrm>
          <a:prstGeom prst="rect">
            <a:avLst/>
          </a:prstGeom>
          <a:ln w="0">
            <a:noFill/>
          </a:ln>
        </p:spPr>
      </p:pic>
      <p:pic>
        <p:nvPicPr>
          <p:cNvPr id="466" name="Picture 13" descr="ANd9GcQ5lmw15uXMjlTRqJv_pIddFzpy3cEbUHWCDRNJPmzDgDz0Z9o&amp;t=1&amp;usg=__VC2jVdrb17NtxWIpTQQuvpfJvQE="/>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Picture 5" descr="confusion"/>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1"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2" name="Picture 5" descr="gender gap"/>
          <p:cNvPicPr/>
          <p:nvPr/>
        </p:nvPicPr>
        <p:blipFill>
          <a:blip r:embed="rId2"/>
          <a:stretch/>
        </p:blipFill>
        <p:spPr>
          <a:xfrm>
            <a:off x="324000" y="3357720"/>
            <a:ext cx="5715000" cy="2743200"/>
          </a:xfrm>
          <a:prstGeom prst="rect">
            <a:avLst/>
          </a:prstGeom>
          <a:ln w="0">
            <a:noFill/>
          </a:ln>
        </p:spPr>
      </p:pic>
      <p:pic>
        <p:nvPicPr>
          <p:cNvPr id="473" name="Picture 7" descr="ANd9GcTIrGIwJxRPJC9kCt2Jm2WyEb4hwVt38MGnWG3s-bmxlwHRbhI&amp;t=1&amp;usg=__hYpO2p-IJyNg-rRZMcbPdFx3wLQ="/>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6" name="Picture 5" descr="oral-contraceptives-for-acne"/>
          <p:cNvPicPr/>
          <p:nvPr/>
        </p:nvPicPr>
        <p:blipFill>
          <a:blip r:embed="rId2"/>
          <a:stretch/>
        </p:blipFill>
        <p:spPr>
          <a:xfrm>
            <a:off x="4643280" y="3068640"/>
            <a:ext cx="3800520" cy="2523960"/>
          </a:xfrm>
          <a:prstGeom prst="rect">
            <a:avLst/>
          </a:prstGeom>
          <a:ln w="0">
            <a:noFill/>
          </a:ln>
        </p:spPr>
      </p:pic>
      <p:pic>
        <p:nvPicPr>
          <p:cNvPr id="477" name="Picture 18" descr="ANd9GcR0SshzZGjM_s-RQ3ArAh4Kx0jOZDpmmlqiVEoxpjtjPzNqeCQ&amp;t=1&amp;usg=__EYfbyfU_wir7t8RTco-G5eBs9QQ="/>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9" name="Picture 6" descr="MC900242001[1]"/>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1" name="Picture 10"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14" name="Picture 5" descr="Source: CIA World Factbook"/>
          <p:cNvPicPr/>
          <p:nvPr/>
        </p:nvPicPr>
        <p:blipFill>
          <a:blip r:embed="rId2"/>
          <a:stretch/>
        </p:blipFill>
        <p:spPr>
          <a:xfrm>
            <a:off x="4500720" y="1773360"/>
            <a:ext cx="4392360" cy="3816360"/>
          </a:xfrm>
          <a:prstGeom prst="rect">
            <a:avLst/>
          </a:prstGeom>
          <a:ln w="0">
            <a:noFill/>
          </a:ln>
        </p:spPr>
      </p:pic>
      <p:pic>
        <p:nvPicPr>
          <p:cNvPr id="415" name="Picture 6"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7"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18" name="Picture 5"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WordArt 4"/>
          <p:cNvSpPr txBox="1"/>
          <p:nvPr/>
        </p:nvSpPr>
        <p:spPr>
          <a:xfrm>
            <a:off x="755640" y="1916280"/>
            <a:ext cx="7848720" cy="39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First Five Year Plan</a:t>
            </a:r>
            <a:endParaRPr b="0" lang="en-US" sz="2400" spc="1" strike="noStrike">
              <a:ln w="19080">
                <a:solidFill>
                  <a:srgbClr val="008080"/>
                </a:solidFill>
                <a:miter/>
              </a:ln>
              <a:solidFill>
                <a:srgbClr val="f83622"/>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1" name="PlaceHolder 2"/>
          <p:cNvSpPr>
            <a:spLocks noGrp="1"/>
          </p:cNvSpPr>
          <p:nvPr>
            <p:ph/>
          </p:nvPr>
        </p:nvSpPr>
        <p:spPr>
          <a:xfrm>
            <a:off x="250920" y="3860280"/>
            <a:ext cx="8686800" cy="452628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2" name="WordArt 5"/>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DPP</a:t>
            </a:r>
            <a:endParaRPr b="0" lang="en-US" sz="2400" spc="1" strike="noStrike">
              <a:ln w="19080">
                <a:solidFill>
                  <a:srgbClr val="008080"/>
                </a:solidFill>
                <a:miter/>
              </a:ln>
              <a:solidFill>
                <a:srgbClr val="f83622"/>
              </a:solidFill>
              <a:latin typeface="Arial Black"/>
              <a:ea typeface="Arial Black"/>
            </a:endParaRPr>
          </a:p>
        </p:txBody>
      </p:sp>
      <p:pic>
        <p:nvPicPr>
          <p:cNvPr id="423" name="Picture 6" descr="bangladesh_map"/>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25" name="Picture 4" descr="0yHFg0UZOIDr_Halida_large"/>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7" name="PlaceHolder 2"/>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8" name="Picture 11" descr="populationPyramid"/>
          <p:cNvPicPr/>
          <p:nvPr/>
        </p:nvPicPr>
        <p:blipFill>
          <a:blip r:embed="rId2"/>
          <a:stretch/>
        </p:blipFill>
        <p:spPr>
          <a:xfrm>
            <a:off x="250920" y="2421000"/>
            <a:ext cx="2952720" cy="2055600"/>
          </a:xfrm>
          <a:prstGeom prst="rect">
            <a:avLst/>
          </a:prstGeom>
          <a:ln w="0">
            <a:noFill/>
          </a:ln>
        </p:spPr>
      </p:pic>
      <p:pic>
        <p:nvPicPr>
          <p:cNvPr id="429" name="Picture 12" descr="populationPyramid"/>
          <p:cNvPicPr/>
          <p:nvPr/>
        </p:nvPicPr>
        <p:blipFill>
          <a:blip r:embed="rId3"/>
          <a:stretch/>
        </p:blipFill>
        <p:spPr>
          <a:xfrm>
            <a:off x="3132000" y="4533840"/>
            <a:ext cx="3024360" cy="2106720"/>
          </a:xfrm>
          <a:prstGeom prst="rect">
            <a:avLst/>
          </a:prstGeom>
          <a:ln w="0">
            <a:noFill/>
          </a:ln>
        </p:spPr>
      </p:pic>
      <p:pic>
        <p:nvPicPr>
          <p:cNvPr id="430" name="Picture 13" descr="populationPyramid"/>
          <p:cNvPicPr/>
          <p:nvPr/>
        </p:nvPicPr>
        <p:blipFill>
          <a:blip r:embed="rId4"/>
          <a:stretch/>
        </p:blipFill>
        <p:spPr>
          <a:xfrm>
            <a:off x="5940360" y="2492280"/>
            <a:ext cx="2905200" cy="20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3" name="Picture 5" descr="bir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5:20:21Z</dcterms:created>
  <dc:creator>Lancaster</dc:creator>
  <dc:description/>
  <dc:language>en-US</dc:language>
  <cp:lastModifiedBy>Phil Randay</cp:lastModifiedBy>
  <dcterms:modified xsi:type="dcterms:W3CDTF">2010-10-14T19:05:29Z</dcterms:modified>
  <cp:revision>30</cp:revision>
  <dc:subject/>
  <dc:title>Slide 1</dc:title>
</cp:coreProperties>
</file>