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38.wmf" ContentType="image/x-wmf"/>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6.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14.png" ContentType="image/png"/>
  <Override PartName="/ppt/media/image16.png" ContentType="image/png"/>
  <Override PartName="/ppt/media/image15.png" ContentType="image/pn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2800-8BF1-4CAD-95A1-9A346C2AD5A0}" type="datetime">
              <a:rPr b="0" lang="es-MX"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AA3F-DAE5-488C-8EFE-95342949063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duction of high mortalit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ity of fertility decline has earned Bangladesh a ‘demographic bonus’, and 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 Bangladesh today can claim one of the highest growth rates in per capita incom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low-income countries of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44 of 175 poorest count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ve Year Plan (1973-78). Lowering the birth rate was seen as the goal of population policy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service delivery through a national family planning program was see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means of achieving that goal. promote the two-child norm and legitimize the use of modern methods of contra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rates did lower and it started to encourage people in Bangladesh to use modern birth control techn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ed because there was lack of effort and money from government. It was impossible to serve the whole nation with contraceptiv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she contributed a lot on a program called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2025           20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aimed for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target 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E3105-54EF-41BB-94F0-CF8A7648D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F2D93-3857-483E-8F6C-2412C7C54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96E4A1-4ABB-41EB-BC27-13D99F96F8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CF75AA-88D8-4BE3-90D7-F0F8FE1518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5975C1-F621-4947-8B08-551944AE2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257C1B-5143-4EB9-825D-F4B7BB27F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DE989-3A02-4FC8-82B1-B0EEF5F1C0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DC79B9-B37E-4E49-B2CF-76BF7FA452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F10893-E84B-4813-9278-51E844B3C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1F26ED-EDC8-42BF-AD63-D3FBC4A056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362845-9EE7-4D03-BBF2-594A2B1FA4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2DB5-33A4-4FC0-BEEB-B91EB37C4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50FB8-FDFD-466F-B0B7-C65CDA354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FAA84-877F-4875-964D-FE8482DB7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AC590-975B-4622-8366-1E99A8F64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3AE93-EE11-401B-B878-4FEABFEF8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F059E-6A9A-47DD-8A88-81F02BDE2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CDF11-A73F-4E7C-8B8D-B8E557455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B9E72-BDCF-4958-A90E-1E8C23079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DAD9C-05AF-4C21-A400-8D6F422C9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EC30-978A-4421-AED0-2577CA8CD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FEBF2-7795-45BC-AB23-503AF2975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934B8-C3DB-4D49-A049-29FD0CAF7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B551E-891C-4CC4-B112-876A65E44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66EA1-00F0-4969-A9E7-A14D5D547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4F691-9EBE-45F9-8F0D-A402507F4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AAEAD-1432-4DA7-B951-3712966F81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16828-7EA6-4049-B89F-BB524AC3C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E1C6A-A1B8-4AA4-A91C-B373B6D16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0E30A-8676-43CA-9D78-AD09D2F00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76E9E-CD9A-4502-8F5C-1ED243D3F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247F-1C5B-4A0B-9C91-418AB5087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3327A-A071-4F44-9CCD-C97B9D978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6F8F6-2645-442D-8AFF-23A4ED219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EDDDE-D25B-4D74-A42B-9B926F68B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21CB7-5AB3-468B-AEE7-4A29D88C0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D16B9-E68D-4007-BF04-494B14891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BA1FCD-6394-49BA-894B-822790B68D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9109C-A587-4CF3-96B3-151B1940ED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84F632-8409-484A-869C-28A9E11B9D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CF696-0793-4653-9CF2-EF4694BDE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9B4C2-80CA-4A39-B373-D79ACDBF73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6147-CEE2-49BD-B098-CEAAE2960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EA336-8712-4E29-83DF-9C5F9F91D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4C476-EAA3-47A5-84B1-332AE742F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D0BCDA-6684-4E5D-8825-5D45206AA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1406E-EA6A-4A8A-8325-2FB338814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4A772-3DE7-4C15-8A14-40A186188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1FEAD-D91D-4A63-92EE-4F9FC9A3A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DEECB-B318-4006-A68F-29A86BB24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BF642-E834-469C-8585-B9DADA934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552273-711A-40EF-9FE5-27B1CB233B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C25A82-7F48-4D83-A9AA-33894DC88B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75392-A7B1-4CDB-93C8-D21AF279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7932E-8637-4F49-9E24-4CA2F1476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A4B457-A29B-4C2F-A1F0-FD4157148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48DCF2-91F6-410A-A79D-46FF4CF0A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B63D3-63DA-440B-9C32-5E35473FA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BDEB5-275F-43AC-A879-03997370F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6F3BAC-C6BB-4D66-BD1B-48E5654BD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6991D-348D-48EC-9F57-E3F33F62D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80A5C-C00D-46C2-B24C-402543C3F8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C6182-48CE-4920-ACD0-11D0F9CB8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4A9D8F-B09E-4FC3-AB2D-3ADF439DF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B264-43D3-4210-AEF8-26BFFB9D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BCD8E4-0BF6-46DA-98B6-6285460A79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146171-B274-4A0A-8610-630359473B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4B844-CFEF-4A59-B0E1-E6523A4DE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245CE-5D52-43A7-899C-1E0FFC7359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4D79A-4BF7-4A9F-949E-8A8697699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9DBD3-935C-4D5A-9026-A3A7BCAE8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2EE2F-4CAB-41EE-9ECA-C69C2FD5B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69168-ADE2-4543-B60F-02BCCF2B9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FEE18-8EA5-4210-ADC8-E3589F80E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B7920-2F95-4E92-8DDD-8ED00E158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8446-7721-4FDE-964D-52A0CEFF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98C88A-9D64-4CE5-A7CF-5DCA6A4B0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3911A4-836A-4100-B54B-4C41C9D884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B860D4-104E-4A71-A4F9-B8C74D8DC7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AD2662-D8F5-4E0C-A3FD-E6D107070A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D38AB-90AA-4495-BDF3-40325F4DDA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3F646-0CE1-418A-AABF-ABF753762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A5AED-DB35-4508-95C2-9CF56A6DA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A879E-8606-4492-8771-92462235C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9E4AC-D32F-4B67-B049-7825F852B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B0787-E8CD-4233-9C3F-F6D98696C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35735-B45C-4922-81E6-9036DB636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6FF49-19F2-49F7-8E7F-50F40D258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49372-37CC-4992-B611-1140AC0809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721A9D-73AD-43BC-80D7-4BC4EBA517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C98685-9C5C-4333-9D8E-77669A0BF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0479AE-5449-4C8F-8C8F-D37A6D0E10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7D5AB2-9E2D-4BEE-AE6D-14683354B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63AE2F-966C-42F5-A2A5-B1844DB60E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B0274-A0ED-4C11-B0F4-DFC4BE0179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E5A83D-9FAE-48C6-8D9E-283013574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E3C26-6BF8-4AB6-86CD-528AEE1BF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6933-B6E5-41AF-AC92-1682C9AEB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0EB3C-94C0-42A6-9DB0-50886FFBE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4B186-1BDF-4B4B-A8CD-B6282FABC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5DB94-2147-420B-8C2D-E5661E28C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459D4-DE9E-4EF7-8BC3-762408E33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798B9-F1DF-41BF-A310-DEF4D6609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802BEE-DDD5-4CC7-99C0-461C2E6656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F279E1-EADE-44DF-8543-9CF8F8388B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30F631-9BDC-42BA-8756-A537701E1D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0479CA-DEC5-4B79-A80F-4B02F1A50C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3BB082-F5F1-4528-A65A-8D7DD6DC97B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8E24-3A2C-46D2-97CF-532F01CDF88B}"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115C-E462-4185-B67F-6E5D11EF6306}"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6331-9725-4C8F-BCBF-4A717D0A7B70}"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D3AB-9A3C-4FB8-B681-56AB00E356C1}"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600F-A34E-4451-80C7-AF4D4D53D1A4}"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2F1C-17FD-4275-A206-25E0004AEF55}"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6333-F2C3-4068-93ED-1D2B1715CE5D}"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9236-9546-42AC-B6A6-1C89D9BD3E87}"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170C-48DF-463F-A126-586D4D9C96DD}"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31E6-07A8-41F2-AB5C-3355477E3A60}"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20B9-F10F-425B-8AD3-89DC166D2062}"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F0F9-DF4C-4E43-8165-DF04012B425F}"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8B19-AC94-43E1-B979-B6D93238D485}"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C429-AADD-4E2A-B23A-5CFBA9C8CE22}"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7B62-D137-4F1B-8254-434F174EE978}"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FB8D-F783-4B41-8D43-BF0AB6CFBFBB}"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CFD6-BF91-4ED2-9FAC-6893F4B66107}"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304B-5980-4B35-AFAB-A5D057DE9822}"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image" Target="../media/image28.jpeg"/><Relationship Id="rId15" Type="http://schemas.openxmlformats.org/officeDocument/2006/relationships/image" Target="../media/image28.jpeg"/><Relationship Id="rId16" Type="http://schemas.openxmlformats.org/officeDocument/2006/relationships/image" Target="../media/image28.jpeg"/><Relationship Id="rId17" Type="http://schemas.openxmlformats.org/officeDocument/2006/relationships/image" Target="../media/image28.jpeg"/><Relationship Id="rId18" Type="http://schemas.openxmlformats.org/officeDocument/2006/relationships/slideLayout" Target="../slideLayouts/slideLayout25.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281160"/>
            <a:ext cx="6804000" cy="1766880"/>
          </a:xfrm>
          <a:prstGeom prst="rect">
            <a:avLst/>
          </a:prstGeom>
          <a:ln w="0">
            <a:noFill/>
          </a:ln>
        </p:spPr>
      </p:pic>
      <p:pic>
        <p:nvPicPr>
          <p:cNvPr id="408" name="Rectangle 8" descr=""/>
          <p:cNvPicPr/>
          <p:nvPr/>
        </p:nvPicPr>
        <p:blipFill>
          <a:blip r:embed="rId4"/>
          <a:stretch/>
        </p:blipFill>
        <p:spPr>
          <a:xfrm>
            <a:off x="2992320" y="5565600"/>
            <a:ext cx="2932200" cy="9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6" name="Picture 5" descr="dea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9" name="Picture 5" descr="bangladesh-independence-08-3-medium"/>
          <p:cNvPicPr/>
          <p:nvPr/>
        </p:nvPicPr>
        <p:blipFill>
          <a:blip r:embed="rId2"/>
          <a:stretch/>
        </p:blipFill>
        <p:spPr>
          <a:xfrm>
            <a:off x="539640" y="2565360"/>
            <a:ext cx="2725920" cy="3719520"/>
          </a:xfrm>
          <a:prstGeom prst="rect">
            <a:avLst/>
          </a:prstGeom>
          <a:ln w="0">
            <a:noFill/>
          </a:ln>
        </p:spPr>
      </p:pic>
      <p:pic>
        <p:nvPicPr>
          <p:cNvPr id="440" name="Picture 7" descr="001653"/>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3" name="Picture 5" descr="MC900055300[1]"/>
          <p:cNvPicPr/>
          <p:nvPr/>
        </p:nvPicPr>
        <p:blipFill>
          <a:blip r:embed="rId2"/>
          <a:stretch/>
        </p:blipFill>
        <p:spPr>
          <a:xfrm>
            <a:off x="611280" y="2276640"/>
            <a:ext cx="2808360" cy="2401560"/>
          </a:xfrm>
          <a:prstGeom prst="rect">
            <a:avLst/>
          </a:prstGeom>
          <a:ln w="0">
            <a:noFill/>
          </a:ln>
        </p:spPr>
      </p:pic>
      <p:pic>
        <p:nvPicPr>
          <p:cNvPr id="444" name="Picture 7" descr="MC900285958[1]"/>
          <p:cNvPicPr/>
          <p:nvPr/>
        </p:nvPicPr>
        <p:blipFill>
          <a:blip r:embed="rId3"/>
          <a:stretch/>
        </p:blipFill>
        <p:spPr>
          <a:xfrm>
            <a:off x="900000" y="4797360"/>
            <a:ext cx="1817640" cy="1797120"/>
          </a:xfrm>
          <a:prstGeom prst="rect">
            <a:avLst/>
          </a:prstGeom>
          <a:ln w="0">
            <a:noFill/>
          </a:ln>
        </p:spPr>
      </p:pic>
      <p:pic>
        <p:nvPicPr>
          <p:cNvPr id="445" name="Picture 42" descr="MC900432671[1]"/>
          <p:cNvPicPr/>
          <p:nvPr/>
        </p:nvPicPr>
        <p:blipFill>
          <a:blip r:embed="rId4"/>
          <a:stretch/>
        </p:blipFill>
        <p:spPr>
          <a:xfrm>
            <a:off x="3348000" y="2852640"/>
            <a:ext cx="1567080" cy="1567080"/>
          </a:xfrm>
          <a:prstGeom prst="rect">
            <a:avLst/>
          </a:prstGeom>
          <a:ln w="0">
            <a:noFill/>
          </a:ln>
        </p:spPr>
      </p:pic>
      <p:pic>
        <p:nvPicPr>
          <p:cNvPr id="446" name="Picture 43" descr="MC900432671[1]"/>
          <p:cNvPicPr/>
          <p:nvPr/>
        </p:nvPicPr>
        <p:blipFill>
          <a:blip r:embed="rId5"/>
          <a:stretch/>
        </p:blipFill>
        <p:spPr>
          <a:xfrm>
            <a:off x="2627280" y="5013360"/>
            <a:ext cx="1566720" cy="1566720"/>
          </a:xfrm>
          <a:prstGeom prst="rect">
            <a:avLst/>
          </a:prstGeom>
          <a:ln w="0">
            <a:noFill/>
          </a:ln>
        </p:spPr>
      </p:pic>
      <p:pic>
        <p:nvPicPr>
          <p:cNvPr id="447" name="Picture 45" descr="ANd9GcSy5w8EKlRmOBrOwrVSaBb8YiZPd7sc-JkTuUptPoIYnG77sPM&amp;t=1&amp;usg=__yaKD2x9A1csGWd_ArUpQTn-cY00="/>
          <p:cNvPicPr/>
          <p:nvPr/>
        </p:nvPicPr>
        <p:blipFill>
          <a:blip r:embed="rId6"/>
          <a:stretch/>
        </p:blipFill>
        <p:spPr>
          <a:xfrm>
            <a:off x="4932360" y="2492280"/>
            <a:ext cx="525600" cy="733680"/>
          </a:xfrm>
          <a:prstGeom prst="rect">
            <a:avLst/>
          </a:prstGeom>
          <a:ln w="0">
            <a:noFill/>
          </a:ln>
        </p:spPr>
      </p:pic>
      <p:pic>
        <p:nvPicPr>
          <p:cNvPr id="448" name="Picture 46" descr="ANd9GcSy5w8EKlRmOBrOwrVSaBb8YiZPd7sc-JkTuUptPoIYnG77sPM&amp;t=1&amp;usg=__yaKD2x9A1csGWd_ArUpQTn-cY00="/>
          <p:cNvPicPr/>
          <p:nvPr/>
        </p:nvPicPr>
        <p:blipFill>
          <a:blip r:embed="rId7"/>
          <a:stretch/>
        </p:blipFill>
        <p:spPr>
          <a:xfrm>
            <a:off x="4932360" y="3500280"/>
            <a:ext cx="525600" cy="733680"/>
          </a:xfrm>
          <a:prstGeom prst="rect">
            <a:avLst/>
          </a:prstGeom>
          <a:ln w="0">
            <a:noFill/>
          </a:ln>
        </p:spPr>
      </p:pic>
      <p:pic>
        <p:nvPicPr>
          <p:cNvPr id="449" name="Picture 47" descr="ANd9GcSy5w8EKlRmOBrOwrVSaBb8YiZPd7sc-JkTuUptPoIYnG77sPM&amp;t=1&amp;usg=__yaKD2x9A1csGWd_ArUpQTn-cY00="/>
          <p:cNvPicPr/>
          <p:nvPr/>
        </p:nvPicPr>
        <p:blipFill>
          <a:blip r:embed="rId8"/>
          <a:stretch/>
        </p:blipFill>
        <p:spPr>
          <a:xfrm>
            <a:off x="5651640" y="2492280"/>
            <a:ext cx="525240" cy="733680"/>
          </a:xfrm>
          <a:prstGeom prst="rect">
            <a:avLst/>
          </a:prstGeom>
          <a:ln w="0">
            <a:noFill/>
          </a:ln>
        </p:spPr>
      </p:pic>
      <p:pic>
        <p:nvPicPr>
          <p:cNvPr id="450" name="Picture 48" descr="ANd9GcSy5w8EKlRmOBrOwrVSaBb8YiZPd7sc-JkTuUptPoIYnG77sPM&amp;t=1&amp;usg=__yaKD2x9A1csGWd_ArUpQTn-cY00="/>
          <p:cNvPicPr/>
          <p:nvPr/>
        </p:nvPicPr>
        <p:blipFill>
          <a:blip r:embed="rId9"/>
          <a:stretch/>
        </p:blipFill>
        <p:spPr>
          <a:xfrm>
            <a:off x="5651640" y="3500280"/>
            <a:ext cx="525240" cy="733680"/>
          </a:xfrm>
          <a:prstGeom prst="rect">
            <a:avLst/>
          </a:prstGeom>
          <a:ln w="0">
            <a:noFill/>
          </a:ln>
        </p:spPr>
      </p:pic>
      <p:pic>
        <p:nvPicPr>
          <p:cNvPr id="451" name="Picture 49" descr="ANd9GcSy5w8EKlRmOBrOwrVSaBb8YiZPd7sc-JkTuUptPoIYnG77sPM&amp;t=1&amp;usg=__yaKD2x9A1csGWd_ArUpQTn-cY00="/>
          <p:cNvPicPr/>
          <p:nvPr/>
        </p:nvPicPr>
        <p:blipFill>
          <a:blip r:embed="rId10"/>
          <a:stretch/>
        </p:blipFill>
        <p:spPr>
          <a:xfrm>
            <a:off x="4140360" y="5013360"/>
            <a:ext cx="525240" cy="733320"/>
          </a:xfrm>
          <a:prstGeom prst="rect">
            <a:avLst/>
          </a:prstGeom>
          <a:ln w="0">
            <a:noFill/>
          </a:ln>
        </p:spPr>
      </p:pic>
      <p:pic>
        <p:nvPicPr>
          <p:cNvPr id="452" name="Picture 50" descr="ANd9GcSy5w8EKlRmOBrOwrVSaBb8YiZPd7sc-JkTuUptPoIYnG77sPM&amp;t=1&amp;usg=__yaKD2x9A1csGWd_ArUpQTn-cY00="/>
          <p:cNvPicPr/>
          <p:nvPr/>
        </p:nvPicPr>
        <p:blipFill>
          <a:blip r:embed="rId11"/>
          <a:stretch/>
        </p:blipFill>
        <p:spPr>
          <a:xfrm>
            <a:off x="4861080" y="5013360"/>
            <a:ext cx="525240" cy="733320"/>
          </a:xfrm>
          <a:prstGeom prst="rect">
            <a:avLst/>
          </a:prstGeom>
          <a:ln w="0">
            <a:noFill/>
          </a:ln>
        </p:spPr>
      </p:pic>
      <p:pic>
        <p:nvPicPr>
          <p:cNvPr id="453" name="Picture 51" descr="ANd9GcSy5w8EKlRmOBrOwrVSaBb8YiZPd7sc-JkTuUptPoIYnG77sPM&amp;t=1&amp;usg=__yaKD2x9A1csGWd_ArUpQTn-cY00="/>
          <p:cNvPicPr/>
          <p:nvPr/>
        </p:nvPicPr>
        <p:blipFill>
          <a:blip r:embed="rId12"/>
          <a:stretch/>
        </p:blipFill>
        <p:spPr>
          <a:xfrm>
            <a:off x="5580000" y="5013360"/>
            <a:ext cx="525600" cy="733320"/>
          </a:xfrm>
          <a:prstGeom prst="rect">
            <a:avLst/>
          </a:prstGeom>
          <a:ln w="0">
            <a:noFill/>
          </a:ln>
        </p:spPr>
      </p:pic>
      <p:pic>
        <p:nvPicPr>
          <p:cNvPr id="454" name="Picture 52" descr="ANd9GcSy5w8EKlRmOBrOwrVSaBb8YiZPd7sc-JkTuUptPoIYnG77sPM&amp;t=1&amp;usg=__yaKD2x9A1csGWd_ArUpQTn-cY00="/>
          <p:cNvPicPr/>
          <p:nvPr/>
        </p:nvPicPr>
        <p:blipFill>
          <a:blip r:embed="rId13"/>
          <a:stretch/>
        </p:blipFill>
        <p:spPr>
          <a:xfrm>
            <a:off x="6300720" y="5013360"/>
            <a:ext cx="525600" cy="733320"/>
          </a:xfrm>
          <a:prstGeom prst="rect">
            <a:avLst/>
          </a:prstGeom>
          <a:ln w="0">
            <a:noFill/>
          </a:ln>
        </p:spPr>
      </p:pic>
      <p:pic>
        <p:nvPicPr>
          <p:cNvPr id="455" name="Picture 53" descr="ANd9GcSy5w8EKlRmOBrOwrVSaBb8YiZPd7sc-JkTuUptPoIYnG77sPM&amp;t=1&amp;usg=__yaKD2x9A1csGWd_ArUpQTn-cY00="/>
          <p:cNvPicPr/>
          <p:nvPr/>
        </p:nvPicPr>
        <p:blipFill>
          <a:blip r:embed="rId14"/>
          <a:stretch/>
        </p:blipFill>
        <p:spPr>
          <a:xfrm>
            <a:off x="4140360" y="5877000"/>
            <a:ext cx="525240" cy="733320"/>
          </a:xfrm>
          <a:prstGeom prst="rect">
            <a:avLst/>
          </a:prstGeom>
          <a:ln w="0">
            <a:noFill/>
          </a:ln>
        </p:spPr>
      </p:pic>
      <p:pic>
        <p:nvPicPr>
          <p:cNvPr id="456" name="Picture 54" descr="ANd9GcSy5w8EKlRmOBrOwrVSaBb8YiZPd7sc-JkTuUptPoIYnG77sPM&amp;t=1&amp;usg=__yaKD2x9A1csGWd_ArUpQTn-cY00="/>
          <p:cNvPicPr/>
          <p:nvPr/>
        </p:nvPicPr>
        <p:blipFill>
          <a:blip r:embed="rId15"/>
          <a:stretch/>
        </p:blipFill>
        <p:spPr>
          <a:xfrm>
            <a:off x="4861080" y="5877000"/>
            <a:ext cx="525240" cy="733320"/>
          </a:xfrm>
          <a:prstGeom prst="rect">
            <a:avLst/>
          </a:prstGeom>
          <a:ln w="0">
            <a:noFill/>
          </a:ln>
        </p:spPr>
      </p:pic>
      <p:pic>
        <p:nvPicPr>
          <p:cNvPr id="457" name="Picture 55" descr="ANd9GcSy5w8EKlRmOBrOwrVSaBb8YiZPd7sc-JkTuUptPoIYnG77sPM&amp;t=1&amp;usg=__yaKD2x9A1csGWd_ArUpQTn-cY00="/>
          <p:cNvPicPr/>
          <p:nvPr/>
        </p:nvPicPr>
        <p:blipFill>
          <a:blip r:embed="rId16"/>
          <a:stretch/>
        </p:blipFill>
        <p:spPr>
          <a:xfrm>
            <a:off x="5580000" y="5877000"/>
            <a:ext cx="525600" cy="733320"/>
          </a:xfrm>
          <a:prstGeom prst="rect">
            <a:avLst/>
          </a:prstGeom>
          <a:ln w="0">
            <a:noFill/>
          </a:ln>
        </p:spPr>
      </p:pic>
      <p:pic>
        <p:nvPicPr>
          <p:cNvPr id="458" name="Picture 56" descr="ANd9GcSy5w8EKlRmOBrOwrVSaBb8YiZPd7sc-JkTuUptPoIYnG77sPM&amp;t=1&amp;usg=__yaKD2x9A1csGWd_ArUpQTn-cY00="/>
          <p:cNvPicPr/>
          <p:nvPr/>
        </p:nvPicPr>
        <p:blipFill>
          <a:blip r:embed="rId17"/>
          <a:stretch/>
        </p:blipFill>
        <p:spPr>
          <a:xfrm>
            <a:off x="6300720" y="5877000"/>
            <a:ext cx="525600" cy="733320"/>
          </a:xfrm>
          <a:prstGeom prst="rect">
            <a:avLst/>
          </a:prstGeom>
          <a:ln w="0">
            <a:noFill/>
          </a:ln>
        </p:spPr>
      </p:pic>
      <p:sp>
        <p:nvSpPr>
          <p:cNvPr id="459" name="Rectangle 57"/>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460" name="Rectangle 59"/>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3" name="Picture 7" descr="apollo_hospital_dhaka"/>
          <p:cNvPicPr/>
          <p:nvPr/>
        </p:nvPicPr>
        <p:blipFill>
          <a:blip r:embed="rId2"/>
          <a:stretch/>
        </p:blipFill>
        <p:spPr>
          <a:xfrm>
            <a:off x="6659640" y="2205000"/>
            <a:ext cx="2160360" cy="1389240"/>
          </a:xfrm>
          <a:prstGeom prst="rect">
            <a:avLst/>
          </a:prstGeom>
          <a:ln w="0">
            <a:noFill/>
          </a:ln>
        </p:spPr>
      </p:pic>
      <p:pic>
        <p:nvPicPr>
          <p:cNvPr id="464" name="Picture 9" descr="P395"/>
          <p:cNvPicPr/>
          <p:nvPr/>
        </p:nvPicPr>
        <p:blipFill>
          <a:blip r:embed="rId3"/>
          <a:stretch/>
        </p:blipFill>
        <p:spPr>
          <a:xfrm>
            <a:off x="250920" y="2997360"/>
            <a:ext cx="3816360" cy="2736720"/>
          </a:xfrm>
          <a:prstGeom prst="rect">
            <a:avLst/>
          </a:prstGeom>
          <a:ln w="0">
            <a:noFill/>
          </a:ln>
        </p:spPr>
      </p:pic>
      <p:pic>
        <p:nvPicPr>
          <p:cNvPr id="465" name="Picture 11" descr="ANd9GcTqUOMbU5mW1Z_TqSHXk2Cfv12jZQW6ABd2VkF-Q043QWUiR54&amp;t=1&amp;h=167&amp;w=222&amp;usg=__aSi76dLxVC0_g5-iwqJ1fmmko7A="/>
          <p:cNvPicPr/>
          <p:nvPr/>
        </p:nvPicPr>
        <p:blipFill>
          <a:blip r:embed="rId4"/>
          <a:stretch/>
        </p:blipFill>
        <p:spPr>
          <a:xfrm>
            <a:off x="4211640" y="2205000"/>
            <a:ext cx="2160720" cy="1417680"/>
          </a:xfrm>
          <a:prstGeom prst="rect">
            <a:avLst/>
          </a:prstGeom>
          <a:ln w="0">
            <a:noFill/>
          </a:ln>
        </p:spPr>
      </p:pic>
      <p:pic>
        <p:nvPicPr>
          <p:cNvPr id="466" name="Picture 13" descr="ANd9GcQ5lmw15uXMjlTRqJv_pIddFzpy3cEbUHWCDRNJPmzDgDz0Z9o&amp;t=1&amp;usg=__VC2jVdrb17NtxWIpTQQuvpfJvQE="/>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Picture 5" descr="confusion"/>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2" name="Picture 5" descr="gender gap"/>
          <p:cNvPicPr/>
          <p:nvPr/>
        </p:nvPicPr>
        <p:blipFill>
          <a:blip r:embed="rId2"/>
          <a:stretch/>
        </p:blipFill>
        <p:spPr>
          <a:xfrm>
            <a:off x="324000" y="3357720"/>
            <a:ext cx="5715000" cy="2743200"/>
          </a:xfrm>
          <a:prstGeom prst="rect">
            <a:avLst/>
          </a:prstGeom>
          <a:ln w="0">
            <a:noFill/>
          </a:ln>
        </p:spPr>
      </p:pic>
      <p:pic>
        <p:nvPicPr>
          <p:cNvPr id="473" name="Picture 7" descr="ANd9GcTIrGIwJxRPJC9kCt2Jm2WyEb4hwVt38MGnWG3s-bmxlwHRbhI&amp;t=1&amp;usg=__hYpO2p-IJyNg-rRZMcbPdFx3wLQ="/>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6" name="Picture 5" descr="oral-contraceptives-for-acne"/>
          <p:cNvPicPr/>
          <p:nvPr/>
        </p:nvPicPr>
        <p:blipFill>
          <a:blip r:embed="rId2"/>
          <a:stretch/>
        </p:blipFill>
        <p:spPr>
          <a:xfrm>
            <a:off x="4643280" y="3068640"/>
            <a:ext cx="3800520" cy="2523960"/>
          </a:xfrm>
          <a:prstGeom prst="rect">
            <a:avLst/>
          </a:prstGeom>
          <a:ln w="0">
            <a:noFill/>
          </a:ln>
        </p:spPr>
      </p:pic>
      <p:pic>
        <p:nvPicPr>
          <p:cNvPr id="477" name="Picture 18" descr="ANd9GcR0SshzZGjM_s-RQ3ArAh4Kx0jOZDpmmlqiVEoxpjtjPzNqeCQ&amp;t=1&amp;usg=__EYfbyfU_wir7t8RTco-G5eBs9QQ="/>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9" name="Picture 6" descr="MC900242001[1]"/>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1" name="Picture 10"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14" name="Picture 5" descr="Source: CIA World Factbook"/>
          <p:cNvPicPr/>
          <p:nvPr/>
        </p:nvPicPr>
        <p:blipFill>
          <a:blip r:embed="rId2"/>
          <a:stretch/>
        </p:blipFill>
        <p:spPr>
          <a:xfrm>
            <a:off x="4500720" y="1773360"/>
            <a:ext cx="4392360" cy="3816360"/>
          </a:xfrm>
          <a:prstGeom prst="rect">
            <a:avLst/>
          </a:prstGeom>
          <a:ln w="0">
            <a:noFill/>
          </a:ln>
        </p:spPr>
      </p:pic>
      <p:pic>
        <p:nvPicPr>
          <p:cNvPr id="415" name="Picture 6"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7"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18" name="Picture 5"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WordArt 4"/>
          <p:cNvSpPr txBox="1"/>
          <p:nvPr/>
        </p:nvSpPr>
        <p:spPr>
          <a:xfrm>
            <a:off x="755640" y="1916280"/>
            <a:ext cx="7848720" cy="39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First Five Year Plan</a:t>
            </a:r>
            <a:endParaRPr b="0" lang="en-US" sz="2400" spc="1" strike="noStrike">
              <a:ln w="19080">
                <a:solidFill>
                  <a:srgbClr val="008080"/>
                </a:solidFill>
                <a:miter/>
              </a:ln>
              <a:solidFill>
                <a:srgbClr val="f83622"/>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1" name="PlaceHolder 2"/>
          <p:cNvSpPr>
            <a:spLocks noGrp="1"/>
          </p:cNvSpPr>
          <p:nvPr>
            <p:ph/>
          </p:nvPr>
        </p:nvSpPr>
        <p:spPr>
          <a:xfrm>
            <a:off x="250920" y="3860280"/>
            <a:ext cx="8686800" cy="452628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2" name="WordArt 5"/>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DPP</a:t>
            </a:r>
            <a:endParaRPr b="0" lang="en-US" sz="2400" spc="1" strike="noStrike">
              <a:ln w="19080">
                <a:solidFill>
                  <a:srgbClr val="008080"/>
                </a:solidFill>
                <a:miter/>
              </a:ln>
              <a:solidFill>
                <a:srgbClr val="f83622"/>
              </a:solidFill>
              <a:latin typeface="Arial Black"/>
              <a:ea typeface="Arial Black"/>
            </a:endParaRPr>
          </a:p>
        </p:txBody>
      </p:sp>
      <p:pic>
        <p:nvPicPr>
          <p:cNvPr id="423" name="Picture 6" descr="bangladesh_map"/>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25" name="Picture 4" descr="0yHFg0UZOIDr_Halida_large"/>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7" name="PlaceHolder 2"/>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8" name="Picture 11" descr="populationPyramid"/>
          <p:cNvPicPr/>
          <p:nvPr/>
        </p:nvPicPr>
        <p:blipFill>
          <a:blip r:embed="rId2"/>
          <a:stretch/>
        </p:blipFill>
        <p:spPr>
          <a:xfrm>
            <a:off x="250920" y="2421000"/>
            <a:ext cx="2952720" cy="2055600"/>
          </a:xfrm>
          <a:prstGeom prst="rect">
            <a:avLst/>
          </a:prstGeom>
          <a:ln w="0">
            <a:noFill/>
          </a:ln>
        </p:spPr>
      </p:pic>
      <p:pic>
        <p:nvPicPr>
          <p:cNvPr id="429" name="Picture 12" descr="populationPyramid"/>
          <p:cNvPicPr/>
          <p:nvPr/>
        </p:nvPicPr>
        <p:blipFill>
          <a:blip r:embed="rId3"/>
          <a:stretch/>
        </p:blipFill>
        <p:spPr>
          <a:xfrm>
            <a:off x="3132000" y="4533840"/>
            <a:ext cx="3024360" cy="2106720"/>
          </a:xfrm>
          <a:prstGeom prst="rect">
            <a:avLst/>
          </a:prstGeom>
          <a:ln w="0">
            <a:noFill/>
          </a:ln>
        </p:spPr>
      </p:pic>
      <p:pic>
        <p:nvPicPr>
          <p:cNvPr id="430" name="Picture 13" descr="populationPyramid"/>
          <p:cNvPicPr/>
          <p:nvPr/>
        </p:nvPicPr>
        <p:blipFill>
          <a:blip r:embed="rId4"/>
          <a:stretch/>
        </p:blipFill>
        <p:spPr>
          <a:xfrm>
            <a:off x="5940360" y="2492280"/>
            <a:ext cx="2905200" cy="20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3" name="Picture 5" descr="bir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20:21Z</dcterms:created>
  <dc:creator>Lancaster</dc:creator>
  <dc:description/>
  <dc:language>en-US</dc:language>
  <cp:lastModifiedBy>Phil Randay</cp:lastModifiedBy>
  <dcterms:modified xsi:type="dcterms:W3CDTF">2010-10-14T19:05:29Z</dcterms:modified>
  <cp:revision>30</cp:revision>
  <dc:subject/>
  <dc:title>Slide 1</dc:title>
</cp:coreProperties>
</file>