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jpeg" ContentType="image/jpeg"/>
  <Override PartName="/ppt/media/image26.wmf" ContentType="image/x-wmf"/>
  <Override PartName="/ppt/media/image25.wmf" ContentType="image/x-wmf"/>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1.png" ContentType="image/png"/>
  <Override PartName="/ppt/media/image19.jpeg" ContentType="image/jpeg"/>
  <Override PartName="/ppt/media/image7.png" ContentType="image/png"/>
  <Override PartName="/ppt/media/image34.jpeg" ContentType="image/jpeg"/>
  <Override PartName="/ppt/media/image38.wmf" ContentType="image/x-wmf"/>
  <Override PartName="/ppt/media/image8.png" ContentType="image/png"/>
  <Override PartName="/ppt/media/image13.png" ContentType="image/png"/>
  <Override PartName="/ppt/media/image37.jpeg" ContentType="image/jpeg"/>
  <Override PartName="/ppt/media/image9.png" ContentType="image/png"/>
  <Override PartName="/ppt/media/image30.jpeg" ContentType="image/jpeg"/>
  <Override PartName="/ppt/media/image2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6.jpeg" ContentType="image/jpe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14.png" ContentType="image/png"/>
  <Override PartName="/ppt/media/image16.png" ContentType="image/png"/>
  <Override PartName="/ppt/media/image15.png" ContentType="image/png"/>
  <Override PartName="/ppt/media/image1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F6A2-2DD6-412E-AD74-51E9A7A5EC17}" type="datetime">
              <a:rPr b="0" lang="es-MX"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CE62-0B4F-4712-A2E6-11493B5D5C89}"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reduction of high mortality</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pidity of fertility decline has earned Bangladesh a ‘demographic bonus’, and 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 Bangladesh today can claim one of the highest growth rates in per capita incom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low-income countries of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44 of 175 poorest count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ive Year Plan (1973-78). Lowering the birth rate was seen as the goal of population policy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service delivery through a national family planning program was see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means of achieving that goal. promote the two-child norm and legitimize the use of modern methods of contra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rtility rates did lower and it started to encourage people in Bangladesh to use modern birth control techn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ed because there was lack of effort and money from government. It was impossible to serve the whole nation with contraceptiv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she contributed a lot on a program called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      2025           20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aimed for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target 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6D91C-CF30-4D56-B99C-FA64B9E4A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576F6-B2B9-4EA6-86A2-00A2896B7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BB8053-19A6-4F3E-AEA2-C8135A37F8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799AFF-F487-4432-BB42-6BD3313474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D52ED2-A385-4917-BF15-2BA00EBD0A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961BF4-624D-4935-B574-79B2387CCD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0D2A95-EDC2-4DC5-9A28-C13AC92A5A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17B959-AEB7-4600-B6E4-F572A5E92B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2FAA6F-6E53-4D12-BFC8-5637B26CA9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0CF3B5-4E20-4565-A1AD-28F63368CC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B3BB73-7B06-44B2-A556-F657A7138C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FCFAD-E6F6-4C33-ADD5-67C745042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AD5D1-BA4A-475E-90B2-AACBFFB25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A7726-4D15-45D1-ADE8-2DA789FA3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2A902-5FF1-4BF6-9379-20FA2D564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5CED9-9E4A-4AEC-88FC-A55B5F5CC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55FD1-C823-4B6A-B147-243856F4D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29E77-BA89-4F02-9FAA-7DF2C90CC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C69E9-A192-45A8-9AE7-FCA95C085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A2AC6-C8EA-4B24-B400-C1C6A9C3C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6B7D1-4ED8-4A0E-B885-E21D42ABB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7FF80-75E5-41B3-82EA-B3F7F62C9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089A9-6740-40DA-80AF-8E21B6620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90D02-170C-4069-8D36-93A38D649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3FE1D-B154-46B9-A29B-313588992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97267-50C7-41EF-8AEA-A06D9E840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89D9E7-3B18-42F0-BC46-A98840C68B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A622B-8BFB-4487-ADFA-D3E070407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85E79-A80F-44F9-B973-01048CA6B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C0A79-E408-45BA-908F-43AFCF2D8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70C07-C435-4A9D-AB2F-DEF2C7100A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A4F5F-C707-49D3-B276-2762E83EA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48749C-CC8B-4857-9DD5-D69EC9CE1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ECD01-CA17-4960-BE33-6ED09A586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FCC86-C901-4504-862B-B7CAB9093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18F3D7-8633-48F0-BD6D-65E3E7786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96364D-37BC-42E2-8A20-B3580EB12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3F76CF-7AA1-4BD9-8D20-06ABC574ED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EDE46D-1C11-4D7C-BDD9-F32FE5F10F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5152D2-0040-4FBC-8B90-085E900AC8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1D7B4C-338A-41AF-B93E-1E35E33ECD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7B73A7-B858-4439-8A04-4E88DD0A6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FBCD5-BE85-4872-87CB-AB55AC30F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B6559-64C8-4E9A-884B-A76CC66761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A4727-0350-4BA8-9EBF-57ACF2DA52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6223F-DF17-4509-A795-3D54884E3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1EB9A-7A25-45E0-B4BF-94FE588B0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BD5208-71E1-4466-B2F8-6687DE019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42130-E2F1-4292-BE16-B5FD49498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5EF05-F167-40FD-BF8C-1C61D8B6F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762EBD-9E83-4CF3-81C3-A0BB15FB4A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073657-801B-444F-A579-EF6293D724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B7DD09-150E-4083-BB9C-467099F129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B0760-65A7-4E3C-B3E9-49EBD8F59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9B6D9A-8669-40A8-8D89-74BD01640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74DB4-BCB1-4043-9232-ACC912F3EC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2DFC3-98E7-4818-85D8-8D65EE74E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4FD92-5C0F-4A33-848F-98DCEEB45F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2B1AE7-F124-4F1E-A6F1-C608A91D50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7FEC2-9683-4165-ABF8-A0B965A42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233FE-5DCA-4662-A251-B429EF834F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C2843-0FB6-4458-85BC-9FE7D4671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6D8FEB-D236-4693-B655-1960D4926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556D12-8161-4D4B-917C-07F1113333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4B853-3CE9-400D-9BEC-965125D96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54DB1B-EAC1-438A-8AD3-E48325F0FC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5FE319-E848-47D3-96E2-AA2D69EC06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4D56C8-1231-442F-AE39-FE125A7F8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E213A-CF85-4621-8F8A-145DB31A98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2CE7C2-04E2-4B1E-9926-F3EDED1CAB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535E23-F3F9-412D-AD26-F1C6CAF741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6CC9BC-7CC2-4D52-8FE2-0907B4BA57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79347-F6E2-43A0-B762-D93C7518F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E400B1-7353-4458-A246-19D97C47A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A29F0F-B59D-424D-BF63-C97C7AC140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3EF0F-E307-43FC-A677-B5FB3E2C2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45F837-5B85-44F9-9135-E9E9ACB24D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0464AD-36B8-4E34-AC9C-030C18F1EB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76851E-9742-4AD2-9816-FEB5FC5BDA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5340BA-11C1-470B-9C8F-953B161BC9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3F65DD-DDA5-428D-BDBF-07857DDFDC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FFD529-DC32-4058-B7B8-C45A4511EF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61AC0B-E1C0-4C21-828F-D1819F5378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8410C-433C-4113-B287-CD46F4D75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0585DE-F008-42EC-BCCB-D64F11F975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1EC12E-3AEC-439C-ADDB-95A5BA8EE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756BE-19E1-4A0F-9431-532DB6E5A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E80309-E4B5-4824-9679-1AE559665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007E2C-4922-4BE7-9F91-6A2268584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C2101A-314F-4BA5-BAB2-E74335AFBC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2E4F07-90F8-4676-AEEE-939ED595F2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1FBF96-3A01-48D3-8382-65CD490C77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EC7525-F3D4-4F9E-9C44-8ADBD456E0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680F51-143B-463F-8F30-2D2B230D02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1C5A36-F1E4-4684-ADBD-82195D37C3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E45405-2F71-4FF7-8EE9-F611597BE3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4B6F3A-092B-4A95-95EF-62B67AB9DE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640EC-9D69-43CB-8D94-503339664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CDC8ED-F170-4227-B77F-EA8FD15E12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27315D-E661-4A1E-BAE8-A910722AC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A287BF-7337-471F-9428-212D3115C3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5B8595-8DF8-4059-B9BF-B41296425F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0B05B9-67F9-46C6-B176-52664CF4E8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045F90-D324-422A-9635-DBFF3770EA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719EF7-F436-4B73-9D5C-FE2C1B6A5F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1556B9-C791-477D-8AE2-24DA48F8C8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EBCB12-3EC4-4D96-B304-CC1F2B4FAA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52922C-7D5B-4F23-BA57-7492948701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790E-3F16-49D8-B550-60EABBB85839}"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6612-2D59-4B23-9E1A-D5EC29FD403D}"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A3EE-ADA6-4C7C-80CC-B2C38E016706}"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96C6-5AD6-4188-9DE2-084F6FE147FE}"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4BEC-7636-45B4-96AB-B5C2796862CD}"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485C-AEE2-4B7D-9DDE-AC23A5B9A30A}"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575E-2708-4B25-8F67-7133EEA23EA1}"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C7DD-E4EB-499C-967C-ADB48C885533}"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B5EA-AFED-40EB-83F7-F6B96D90BC70}"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2AED-0645-4ED9-AE30-072A45326138}"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7408-C4A7-4148-AB76-B54E1E17479E}"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737D-633A-4473-94F6-E1C6EF0D0F00}"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6EAD-F6A0-4372-8261-CBF9569579AF}"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4A81A-F705-486E-BB76-9DE79FA8BDF4}"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FAED-694F-4384-BC81-FAB5A2206550}"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B277-58B1-43F3-9FAD-011993F2E26A}"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96DD-AE0C-49E5-994C-2F1E0FA72DAA}"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FB4A-163F-4260-860D-2C65D476BC80}"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image" Target="../media/image28.jpeg"/><Relationship Id="rId15" Type="http://schemas.openxmlformats.org/officeDocument/2006/relationships/image" Target="../media/image28.jpeg"/><Relationship Id="rId16" Type="http://schemas.openxmlformats.org/officeDocument/2006/relationships/image" Target="../media/image28.jpeg"/><Relationship Id="rId17" Type="http://schemas.openxmlformats.org/officeDocument/2006/relationships/image" Target="../media/image28.jpeg"/><Relationship Id="rId18" Type="http://schemas.openxmlformats.org/officeDocument/2006/relationships/slideLayout" Target="../slideLayouts/slideLayout25.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281160"/>
            <a:ext cx="6804000" cy="1766880"/>
          </a:xfrm>
          <a:prstGeom prst="rect">
            <a:avLst/>
          </a:prstGeom>
          <a:ln w="0">
            <a:noFill/>
          </a:ln>
        </p:spPr>
      </p:pic>
      <p:pic>
        <p:nvPicPr>
          <p:cNvPr id="408" name="Rectangle 8" descr=""/>
          <p:cNvPicPr/>
          <p:nvPr/>
        </p:nvPicPr>
        <p:blipFill>
          <a:blip r:embed="rId4"/>
          <a:stretch/>
        </p:blipFill>
        <p:spPr>
          <a:xfrm>
            <a:off x="2992320" y="5565600"/>
            <a:ext cx="2932200" cy="9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6" name="Picture 5" descr="dea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9" name="Picture 5" descr="bangladesh-independence-08-3-medium"/>
          <p:cNvPicPr/>
          <p:nvPr/>
        </p:nvPicPr>
        <p:blipFill>
          <a:blip r:embed="rId2"/>
          <a:stretch/>
        </p:blipFill>
        <p:spPr>
          <a:xfrm>
            <a:off x="539640" y="2565360"/>
            <a:ext cx="2725920" cy="3719520"/>
          </a:xfrm>
          <a:prstGeom prst="rect">
            <a:avLst/>
          </a:prstGeom>
          <a:ln w="0">
            <a:noFill/>
          </a:ln>
        </p:spPr>
      </p:pic>
      <p:pic>
        <p:nvPicPr>
          <p:cNvPr id="440" name="Picture 7" descr="001653"/>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3" name="Picture 5" descr="MC900055300[1]"/>
          <p:cNvPicPr/>
          <p:nvPr/>
        </p:nvPicPr>
        <p:blipFill>
          <a:blip r:embed="rId2"/>
          <a:stretch/>
        </p:blipFill>
        <p:spPr>
          <a:xfrm>
            <a:off x="611280" y="2276640"/>
            <a:ext cx="2808360" cy="2401560"/>
          </a:xfrm>
          <a:prstGeom prst="rect">
            <a:avLst/>
          </a:prstGeom>
          <a:ln w="0">
            <a:noFill/>
          </a:ln>
        </p:spPr>
      </p:pic>
      <p:pic>
        <p:nvPicPr>
          <p:cNvPr id="444" name="Picture 7" descr="MC900285958[1]"/>
          <p:cNvPicPr/>
          <p:nvPr/>
        </p:nvPicPr>
        <p:blipFill>
          <a:blip r:embed="rId3"/>
          <a:stretch/>
        </p:blipFill>
        <p:spPr>
          <a:xfrm>
            <a:off x="900000" y="4797360"/>
            <a:ext cx="1817640" cy="1797120"/>
          </a:xfrm>
          <a:prstGeom prst="rect">
            <a:avLst/>
          </a:prstGeom>
          <a:ln w="0">
            <a:noFill/>
          </a:ln>
        </p:spPr>
      </p:pic>
      <p:pic>
        <p:nvPicPr>
          <p:cNvPr id="445" name="Picture 42" descr="MC900432671[1]"/>
          <p:cNvPicPr/>
          <p:nvPr/>
        </p:nvPicPr>
        <p:blipFill>
          <a:blip r:embed="rId4"/>
          <a:stretch/>
        </p:blipFill>
        <p:spPr>
          <a:xfrm>
            <a:off x="3348000" y="2852640"/>
            <a:ext cx="1567080" cy="1567080"/>
          </a:xfrm>
          <a:prstGeom prst="rect">
            <a:avLst/>
          </a:prstGeom>
          <a:ln w="0">
            <a:noFill/>
          </a:ln>
        </p:spPr>
      </p:pic>
      <p:pic>
        <p:nvPicPr>
          <p:cNvPr id="446" name="Picture 43" descr="MC900432671[1]"/>
          <p:cNvPicPr/>
          <p:nvPr/>
        </p:nvPicPr>
        <p:blipFill>
          <a:blip r:embed="rId5"/>
          <a:stretch/>
        </p:blipFill>
        <p:spPr>
          <a:xfrm>
            <a:off x="2627280" y="5013360"/>
            <a:ext cx="1566720" cy="1566720"/>
          </a:xfrm>
          <a:prstGeom prst="rect">
            <a:avLst/>
          </a:prstGeom>
          <a:ln w="0">
            <a:noFill/>
          </a:ln>
        </p:spPr>
      </p:pic>
      <p:pic>
        <p:nvPicPr>
          <p:cNvPr id="447" name="Picture 45" descr="ANd9GcSy5w8EKlRmOBrOwrVSaBb8YiZPd7sc-JkTuUptPoIYnG77sPM&amp;t=1&amp;usg=__yaKD2x9A1csGWd_ArUpQTn-cY00="/>
          <p:cNvPicPr/>
          <p:nvPr/>
        </p:nvPicPr>
        <p:blipFill>
          <a:blip r:embed="rId6"/>
          <a:stretch/>
        </p:blipFill>
        <p:spPr>
          <a:xfrm>
            <a:off x="4932360" y="2492280"/>
            <a:ext cx="525600" cy="733680"/>
          </a:xfrm>
          <a:prstGeom prst="rect">
            <a:avLst/>
          </a:prstGeom>
          <a:ln w="0">
            <a:noFill/>
          </a:ln>
        </p:spPr>
      </p:pic>
      <p:pic>
        <p:nvPicPr>
          <p:cNvPr id="448" name="Picture 46" descr="ANd9GcSy5w8EKlRmOBrOwrVSaBb8YiZPd7sc-JkTuUptPoIYnG77sPM&amp;t=1&amp;usg=__yaKD2x9A1csGWd_ArUpQTn-cY00="/>
          <p:cNvPicPr/>
          <p:nvPr/>
        </p:nvPicPr>
        <p:blipFill>
          <a:blip r:embed="rId7"/>
          <a:stretch/>
        </p:blipFill>
        <p:spPr>
          <a:xfrm>
            <a:off x="4932360" y="3500280"/>
            <a:ext cx="525600" cy="733680"/>
          </a:xfrm>
          <a:prstGeom prst="rect">
            <a:avLst/>
          </a:prstGeom>
          <a:ln w="0">
            <a:noFill/>
          </a:ln>
        </p:spPr>
      </p:pic>
      <p:pic>
        <p:nvPicPr>
          <p:cNvPr id="449" name="Picture 47" descr="ANd9GcSy5w8EKlRmOBrOwrVSaBb8YiZPd7sc-JkTuUptPoIYnG77sPM&amp;t=1&amp;usg=__yaKD2x9A1csGWd_ArUpQTn-cY00="/>
          <p:cNvPicPr/>
          <p:nvPr/>
        </p:nvPicPr>
        <p:blipFill>
          <a:blip r:embed="rId8"/>
          <a:stretch/>
        </p:blipFill>
        <p:spPr>
          <a:xfrm>
            <a:off x="5651640" y="2492280"/>
            <a:ext cx="525240" cy="733680"/>
          </a:xfrm>
          <a:prstGeom prst="rect">
            <a:avLst/>
          </a:prstGeom>
          <a:ln w="0">
            <a:noFill/>
          </a:ln>
        </p:spPr>
      </p:pic>
      <p:pic>
        <p:nvPicPr>
          <p:cNvPr id="450" name="Picture 48" descr="ANd9GcSy5w8EKlRmOBrOwrVSaBb8YiZPd7sc-JkTuUptPoIYnG77sPM&amp;t=1&amp;usg=__yaKD2x9A1csGWd_ArUpQTn-cY00="/>
          <p:cNvPicPr/>
          <p:nvPr/>
        </p:nvPicPr>
        <p:blipFill>
          <a:blip r:embed="rId9"/>
          <a:stretch/>
        </p:blipFill>
        <p:spPr>
          <a:xfrm>
            <a:off x="5651640" y="3500280"/>
            <a:ext cx="525240" cy="733680"/>
          </a:xfrm>
          <a:prstGeom prst="rect">
            <a:avLst/>
          </a:prstGeom>
          <a:ln w="0">
            <a:noFill/>
          </a:ln>
        </p:spPr>
      </p:pic>
      <p:pic>
        <p:nvPicPr>
          <p:cNvPr id="451" name="Picture 49" descr="ANd9GcSy5w8EKlRmOBrOwrVSaBb8YiZPd7sc-JkTuUptPoIYnG77sPM&amp;t=1&amp;usg=__yaKD2x9A1csGWd_ArUpQTn-cY00="/>
          <p:cNvPicPr/>
          <p:nvPr/>
        </p:nvPicPr>
        <p:blipFill>
          <a:blip r:embed="rId10"/>
          <a:stretch/>
        </p:blipFill>
        <p:spPr>
          <a:xfrm>
            <a:off x="4140360" y="5013360"/>
            <a:ext cx="525240" cy="733320"/>
          </a:xfrm>
          <a:prstGeom prst="rect">
            <a:avLst/>
          </a:prstGeom>
          <a:ln w="0">
            <a:noFill/>
          </a:ln>
        </p:spPr>
      </p:pic>
      <p:pic>
        <p:nvPicPr>
          <p:cNvPr id="452" name="Picture 50" descr="ANd9GcSy5w8EKlRmOBrOwrVSaBb8YiZPd7sc-JkTuUptPoIYnG77sPM&amp;t=1&amp;usg=__yaKD2x9A1csGWd_ArUpQTn-cY00="/>
          <p:cNvPicPr/>
          <p:nvPr/>
        </p:nvPicPr>
        <p:blipFill>
          <a:blip r:embed="rId11"/>
          <a:stretch/>
        </p:blipFill>
        <p:spPr>
          <a:xfrm>
            <a:off x="4861080" y="5013360"/>
            <a:ext cx="525240" cy="733320"/>
          </a:xfrm>
          <a:prstGeom prst="rect">
            <a:avLst/>
          </a:prstGeom>
          <a:ln w="0">
            <a:noFill/>
          </a:ln>
        </p:spPr>
      </p:pic>
      <p:pic>
        <p:nvPicPr>
          <p:cNvPr id="453" name="Picture 51" descr="ANd9GcSy5w8EKlRmOBrOwrVSaBb8YiZPd7sc-JkTuUptPoIYnG77sPM&amp;t=1&amp;usg=__yaKD2x9A1csGWd_ArUpQTn-cY00="/>
          <p:cNvPicPr/>
          <p:nvPr/>
        </p:nvPicPr>
        <p:blipFill>
          <a:blip r:embed="rId12"/>
          <a:stretch/>
        </p:blipFill>
        <p:spPr>
          <a:xfrm>
            <a:off x="5580000" y="5013360"/>
            <a:ext cx="525600" cy="733320"/>
          </a:xfrm>
          <a:prstGeom prst="rect">
            <a:avLst/>
          </a:prstGeom>
          <a:ln w="0">
            <a:noFill/>
          </a:ln>
        </p:spPr>
      </p:pic>
      <p:pic>
        <p:nvPicPr>
          <p:cNvPr id="454" name="Picture 52" descr="ANd9GcSy5w8EKlRmOBrOwrVSaBb8YiZPd7sc-JkTuUptPoIYnG77sPM&amp;t=1&amp;usg=__yaKD2x9A1csGWd_ArUpQTn-cY00="/>
          <p:cNvPicPr/>
          <p:nvPr/>
        </p:nvPicPr>
        <p:blipFill>
          <a:blip r:embed="rId13"/>
          <a:stretch/>
        </p:blipFill>
        <p:spPr>
          <a:xfrm>
            <a:off x="6300720" y="5013360"/>
            <a:ext cx="525600" cy="733320"/>
          </a:xfrm>
          <a:prstGeom prst="rect">
            <a:avLst/>
          </a:prstGeom>
          <a:ln w="0">
            <a:noFill/>
          </a:ln>
        </p:spPr>
      </p:pic>
      <p:pic>
        <p:nvPicPr>
          <p:cNvPr id="455" name="Picture 53" descr="ANd9GcSy5w8EKlRmOBrOwrVSaBb8YiZPd7sc-JkTuUptPoIYnG77sPM&amp;t=1&amp;usg=__yaKD2x9A1csGWd_ArUpQTn-cY00="/>
          <p:cNvPicPr/>
          <p:nvPr/>
        </p:nvPicPr>
        <p:blipFill>
          <a:blip r:embed="rId14"/>
          <a:stretch/>
        </p:blipFill>
        <p:spPr>
          <a:xfrm>
            <a:off x="4140360" y="5877000"/>
            <a:ext cx="525240" cy="733320"/>
          </a:xfrm>
          <a:prstGeom prst="rect">
            <a:avLst/>
          </a:prstGeom>
          <a:ln w="0">
            <a:noFill/>
          </a:ln>
        </p:spPr>
      </p:pic>
      <p:pic>
        <p:nvPicPr>
          <p:cNvPr id="456" name="Picture 54" descr="ANd9GcSy5w8EKlRmOBrOwrVSaBb8YiZPd7sc-JkTuUptPoIYnG77sPM&amp;t=1&amp;usg=__yaKD2x9A1csGWd_ArUpQTn-cY00="/>
          <p:cNvPicPr/>
          <p:nvPr/>
        </p:nvPicPr>
        <p:blipFill>
          <a:blip r:embed="rId15"/>
          <a:stretch/>
        </p:blipFill>
        <p:spPr>
          <a:xfrm>
            <a:off x="4861080" y="5877000"/>
            <a:ext cx="525240" cy="733320"/>
          </a:xfrm>
          <a:prstGeom prst="rect">
            <a:avLst/>
          </a:prstGeom>
          <a:ln w="0">
            <a:noFill/>
          </a:ln>
        </p:spPr>
      </p:pic>
      <p:pic>
        <p:nvPicPr>
          <p:cNvPr id="457" name="Picture 55" descr="ANd9GcSy5w8EKlRmOBrOwrVSaBb8YiZPd7sc-JkTuUptPoIYnG77sPM&amp;t=1&amp;usg=__yaKD2x9A1csGWd_ArUpQTn-cY00="/>
          <p:cNvPicPr/>
          <p:nvPr/>
        </p:nvPicPr>
        <p:blipFill>
          <a:blip r:embed="rId16"/>
          <a:stretch/>
        </p:blipFill>
        <p:spPr>
          <a:xfrm>
            <a:off x="5580000" y="5877000"/>
            <a:ext cx="525600" cy="733320"/>
          </a:xfrm>
          <a:prstGeom prst="rect">
            <a:avLst/>
          </a:prstGeom>
          <a:ln w="0">
            <a:noFill/>
          </a:ln>
        </p:spPr>
      </p:pic>
      <p:pic>
        <p:nvPicPr>
          <p:cNvPr id="458" name="Picture 56" descr="ANd9GcSy5w8EKlRmOBrOwrVSaBb8YiZPd7sc-JkTuUptPoIYnG77sPM&amp;t=1&amp;usg=__yaKD2x9A1csGWd_ArUpQTn-cY00="/>
          <p:cNvPicPr/>
          <p:nvPr/>
        </p:nvPicPr>
        <p:blipFill>
          <a:blip r:embed="rId17"/>
          <a:stretch/>
        </p:blipFill>
        <p:spPr>
          <a:xfrm>
            <a:off x="6300720" y="5877000"/>
            <a:ext cx="525600" cy="733320"/>
          </a:xfrm>
          <a:prstGeom prst="rect">
            <a:avLst/>
          </a:prstGeom>
          <a:ln w="0">
            <a:noFill/>
          </a:ln>
        </p:spPr>
      </p:pic>
      <p:sp>
        <p:nvSpPr>
          <p:cNvPr id="459" name="Rectangle 57"/>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Arial"/>
            </a:endParaRPr>
          </a:p>
        </p:txBody>
      </p:sp>
      <p:sp>
        <p:nvSpPr>
          <p:cNvPr id="460" name="Rectangle 59"/>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3" name="Picture 7" descr="apollo_hospital_dhaka"/>
          <p:cNvPicPr/>
          <p:nvPr/>
        </p:nvPicPr>
        <p:blipFill>
          <a:blip r:embed="rId2"/>
          <a:stretch/>
        </p:blipFill>
        <p:spPr>
          <a:xfrm>
            <a:off x="6659640" y="2205000"/>
            <a:ext cx="2160360" cy="1389240"/>
          </a:xfrm>
          <a:prstGeom prst="rect">
            <a:avLst/>
          </a:prstGeom>
          <a:ln w="0">
            <a:noFill/>
          </a:ln>
        </p:spPr>
      </p:pic>
      <p:pic>
        <p:nvPicPr>
          <p:cNvPr id="464" name="Picture 9" descr="P395"/>
          <p:cNvPicPr/>
          <p:nvPr/>
        </p:nvPicPr>
        <p:blipFill>
          <a:blip r:embed="rId3"/>
          <a:stretch/>
        </p:blipFill>
        <p:spPr>
          <a:xfrm>
            <a:off x="250920" y="2997360"/>
            <a:ext cx="3816360" cy="2736720"/>
          </a:xfrm>
          <a:prstGeom prst="rect">
            <a:avLst/>
          </a:prstGeom>
          <a:ln w="0">
            <a:noFill/>
          </a:ln>
        </p:spPr>
      </p:pic>
      <p:pic>
        <p:nvPicPr>
          <p:cNvPr id="465" name="Picture 11" descr="ANd9GcTqUOMbU5mW1Z_TqSHXk2Cfv12jZQW6ABd2VkF-Q043QWUiR54&amp;t=1&amp;h=167&amp;w=222&amp;usg=__aSi76dLxVC0_g5-iwqJ1fmmko7A="/>
          <p:cNvPicPr/>
          <p:nvPr/>
        </p:nvPicPr>
        <p:blipFill>
          <a:blip r:embed="rId4"/>
          <a:stretch/>
        </p:blipFill>
        <p:spPr>
          <a:xfrm>
            <a:off x="4211640" y="2205000"/>
            <a:ext cx="2160720" cy="1417680"/>
          </a:xfrm>
          <a:prstGeom prst="rect">
            <a:avLst/>
          </a:prstGeom>
          <a:ln w="0">
            <a:noFill/>
          </a:ln>
        </p:spPr>
      </p:pic>
      <p:pic>
        <p:nvPicPr>
          <p:cNvPr id="466" name="Picture 13" descr="ANd9GcQ5lmw15uXMjlTRqJv_pIddFzpy3cEbUHWCDRNJPmzDgDz0Z9o&amp;t=1&amp;usg=__VC2jVdrb17NtxWIpTQQuvpfJvQE="/>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Picture 5" descr="confusion"/>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1"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2" name="Picture 5" descr="gender gap"/>
          <p:cNvPicPr/>
          <p:nvPr/>
        </p:nvPicPr>
        <p:blipFill>
          <a:blip r:embed="rId2"/>
          <a:stretch/>
        </p:blipFill>
        <p:spPr>
          <a:xfrm>
            <a:off x="324000" y="3357720"/>
            <a:ext cx="5715000" cy="2743200"/>
          </a:xfrm>
          <a:prstGeom prst="rect">
            <a:avLst/>
          </a:prstGeom>
          <a:ln w="0">
            <a:noFill/>
          </a:ln>
        </p:spPr>
      </p:pic>
      <p:pic>
        <p:nvPicPr>
          <p:cNvPr id="473" name="Picture 7" descr="ANd9GcTIrGIwJxRPJC9kCt2Jm2WyEb4hwVt38MGnWG3s-bmxlwHRbhI&amp;t=1&amp;usg=__hYpO2p-IJyNg-rRZMcbPdFx3wLQ="/>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6" name="Picture 5" descr="oral-contraceptives-for-acne"/>
          <p:cNvPicPr/>
          <p:nvPr/>
        </p:nvPicPr>
        <p:blipFill>
          <a:blip r:embed="rId2"/>
          <a:stretch/>
        </p:blipFill>
        <p:spPr>
          <a:xfrm>
            <a:off x="4643280" y="3068640"/>
            <a:ext cx="3800520" cy="2523960"/>
          </a:xfrm>
          <a:prstGeom prst="rect">
            <a:avLst/>
          </a:prstGeom>
          <a:ln w="0">
            <a:noFill/>
          </a:ln>
        </p:spPr>
      </p:pic>
      <p:pic>
        <p:nvPicPr>
          <p:cNvPr id="477" name="Picture 18" descr="ANd9GcR0SshzZGjM_s-RQ3ArAh4Kx0jOZDpmmlqiVEoxpjtjPzNqeCQ&amp;t=1&amp;usg=__EYfbyfU_wir7t8RTco-G5eBs9QQ="/>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9" name="Picture 6" descr="MC900242001[1]"/>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1" name="Picture 10"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14" name="Picture 5" descr="Source: CIA World Factbook"/>
          <p:cNvPicPr/>
          <p:nvPr/>
        </p:nvPicPr>
        <p:blipFill>
          <a:blip r:embed="rId2"/>
          <a:stretch/>
        </p:blipFill>
        <p:spPr>
          <a:xfrm>
            <a:off x="4500720" y="1773360"/>
            <a:ext cx="4392360" cy="3816360"/>
          </a:xfrm>
          <a:prstGeom prst="rect">
            <a:avLst/>
          </a:prstGeom>
          <a:ln w="0">
            <a:noFill/>
          </a:ln>
        </p:spPr>
      </p:pic>
      <p:pic>
        <p:nvPicPr>
          <p:cNvPr id="415" name="Picture 6"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7"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18" name="Picture 5"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WordArt 4"/>
          <p:cNvSpPr txBox="1"/>
          <p:nvPr/>
        </p:nvSpPr>
        <p:spPr>
          <a:xfrm>
            <a:off x="755640" y="1916280"/>
            <a:ext cx="7848720" cy="39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First Five Year Plan</a:t>
            </a:r>
            <a:endParaRPr b="0" lang="en-US" sz="2400" spc="1" strike="noStrike">
              <a:ln w="19080">
                <a:solidFill>
                  <a:srgbClr val="008080"/>
                </a:solidFill>
                <a:miter/>
              </a:ln>
              <a:solidFill>
                <a:srgbClr val="f83622"/>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1" name="PlaceHolder 2"/>
          <p:cNvSpPr>
            <a:spLocks noGrp="1"/>
          </p:cNvSpPr>
          <p:nvPr>
            <p:ph/>
          </p:nvPr>
        </p:nvSpPr>
        <p:spPr>
          <a:xfrm>
            <a:off x="250920" y="3860280"/>
            <a:ext cx="8686800" cy="452628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2" name="WordArt 5"/>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DPP</a:t>
            </a:r>
            <a:endParaRPr b="0" lang="en-US" sz="2400" spc="1" strike="noStrike">
              <a:ln w="19080">
                <a:solidFill>
                  <a:srgbClr val="008080"/>
                </a:solidFill>
                <a:miter/>
              </a:ln>
              <a:solidFill>
                <a:srgbClr val="f83622"/>
              </a:solidFill>
              <a:latin typeface="Arial Black"/>
              <a:ea typeface="Arial Black"/>
            </a:endParaRPr>
          </a:p>
        </p:txBody>
      </p:sp>
      <p:pic>
        <p:nvPicPr>
          <p:cNvPr id="423" name="Picture 6" descr="bangladesh_map"/>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25" name="Picture 4" descr="0yHFg0UZOIDr_Halida_large"/>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7" name="PlaceHolder 2"/>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8" name="Picture 11" descr="populationPyramid"/>
          <p:cNvPicPr/>
          <p:nvPr/>
        </p:nvPicPr>
        <p:blipFill>
          <a:blip r:embed="rId2"/>
          <a:stretch/>
        </p:blipFill>
        <p:spPr>
          <a:xfrm>
            <a:off x="250920" y="2421000"/>
            <a:ext cx="2952720" cy="2055600"/>
          </a:xfrm>
          <a:prstGeom prst="rect">
            <a:avLst/>
          </a:prstGeom>
          <a:ln w="0">
            <a:noFill/>
          </a:ln>
        </p:spPr>
      </p:pic>
      <p:pic>
        <p:nvPicPr>
          <p:cNvPr id="429" name="Picture 12" descr="populationPyramid"/>
          <p:cNvPicPr/>
          <p:nvPr/>
        </p:nvPicPr>
        <p:blipFill>
          <a:blip r:embed="rId3"/>
          <a:stretch/>
        </p:blipFill>
        <p:spPr>
          <a:xfrm>
            <a:off x="3132000" y="4533840"/>
            <a:ext cx="3024360" cy="2106720"/>
          </a:xfrm>
          <a:prstGeom prst="rect">
            <a:avLst/>
          </a:prstGeom>
          <a:ln w="0">
            <a:noFill/>
          </a:ln>
        </p:spPr>
      </p:pic>
      <p:pic>
        <p:nvPicPr>
          <p:cNvPr id="430" name="Picture 13" descr="populationPyramid"/>
          <p:cNvPicPr/>
          <p:nvPr/>
        </p:nvPicPr>
        <p:blipFill>
          <a:blip r:embed="rId4"/>
          <a:stretch/>
        </p:blipFill>
        <p:spPr>
          <a:xfrm>
            <a:off x="5940360" y="2492280"/>
            <a:ext cx="2905200" cy="20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3" name="Picture 5" descr="bir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5:20:21Z</dcterms:created>
  <dc:creator>Lancaster</dc:creator>
  <dc:description/>
  <dc:language>en-US</dc:language>
  <cp:lastModifiedBy>Phil Randay</cp:lastModifiedBy>
  <dcterms:modified xsi:type="dcterms:W3CDTF">2010-10-14T19:05:29Z</dcterms:modified>
  <cp:revision>30</cp:revision>
  <dc:subject/>
  <dc:title>Slide 1</dc:title>
</cp:coreProperties>
</file>