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38.wmf" ContentType="image/x-wmf"/>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6.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14.png" ContentType="image/png"/>
  <Override PartName="/ppt/media/image16.png" ContentType="image/png"/>
  <Override PartName="/ppt/media/image15.png" ContentType="image/pn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70D5-A3E0-42AE-9F84-1058ED1DCA51}" type="datetime">
              <a:rPr b="0" lang="es-MX"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2BCA-0F76-450D-A866-69C1C03C8EC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duction of high mortalit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ity of fertility decline has earned Bangladesh a ‘demographic bonus’, and 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 Bangladesh today can claim one of the highest growth rates in per capita incom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low-income countries of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44 of 175 poorest count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ve Year Plan (1973-78). Lowering the birth rate was seen as the goal of population policy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service delivery through a national family planning program was see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means of achieving that goal. promote the two-child norm and legitimize the use of modern methods of contra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rates did lower and it started to encourage people in Bangladesh to use modern birth control techn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ed because there was lack of effort and money from government. It was impossible to serve the whole nation with contraceptiv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she contributed a lot on a program called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2025           20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aimed for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target 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B963D-3744-490B-BCC2-1E70EC3E1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06277-DF79-4223-8715-4550C91E2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3FB07C-1AC6-41F0-ADF3-B1B8792272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493CD3-A541-49D9-A16E-04AD6CD256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8A13C-64C8-492B-A807-C882243FB4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C4FBE2-E4A3-45E7-A50F-8442CCBF9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A21E14-05BF-4117-A9C2-A11F1C151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5693C-D4B9-42AC-AAFB-7590C515AA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D2B96-1F59-4831-AA23-E8D50880D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9AFD30-5C0B-4F15-A1F1-2376FE3A01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139A20-AD6D-4C35-9682-2CBB5E20C7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55716-BF93-4744-99C9-5D8D718E9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53912-5AF8-45DE-95B1-5281963E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C8DB6-B5FD-4ADD-92E6-1BE86C1E9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452DB-F1F6-43EC-B1A3-C4051DC25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53FA1-2F54-44F6-8257-9DC1E5BF4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67F83-90FA-4C8E-9784-2C966ACF5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41B78-0C2F-4C4E-80BD-E8D95835A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1321D-180E-4528-A284-37924DA67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AEDF-6B13-47B3-9A73-D45E6304A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5D06-2986-4ECD-BA64-AA21E54E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33FD0-DCF8-4653-A0CA-205F35825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D7A5B-50B7-4406-B92E-C4A6E914D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5F2A8-4B62-42D2-95E6-D767EBA0C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2E673-E8BB-494C-8143-15CEBC89A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13F87-D62D-4528-B399-1AC0569CD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55FAD-3EBB-4931-96EC-4CFF185471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A9941-CB53-47F6-BD35-1D89FBBB1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40C21-8976-4B8A-9305-9D7E34EE0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EFD0E-C968-4C97-A577-68C39E64F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221D4D-A769-4A04-857A-69A7F9E6A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0815A-AD03-43BF-AEF8-1943BBFB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0E7D6-2E02-46E5-BB9F-BD91408C6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72743-605C-4225-B129-ED8D24F8A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56D3F-8E75-428E-8FE1-246ABD859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6D7B4-592A-425F-AFC6-09277AA48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5C319-46F4-4B30-9CD2-BAE750F64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8E519C-8C0C-44C0-8759-BD4426DFCC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835C4D-EC84-42AB-8E2F-91F001D55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1F8925-87F4-499F-A1F8-A0D9080CF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10A9D-2D47-49EA-B4A8-B97ABC0F3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98CDA-85D3-436B-B7E9-E3E61976D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7DD6C-9D80-4FAC-AC84-F5B9280D1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01044-5F38-4F84-A930-F8ABF8685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F36F3-EA6C-4A8F-8CE5-ADB014FD3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3BA48-4ED5-42CD-871C-FF84F8065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70D07-F24E-465F-9935-5435029AD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BF84C-1FCE-49CA-9D56-DC37D82CF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CC06E-2426-4035-8AD1-1F54ED2F7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11593-ADF5-4DBC-8A12-7438C7507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3910C-2812-4F43-AAB4-ACF120F4F2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56EEE-CB1D-43CD-AED3-C25328480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347062-FE09-474A-8217-02CF7E5FA9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A8571-49B1-459A-98BE-FFE5EC900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1DA34-0D77-4465-A256-2CD9E4FA2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8E3BA-F966-4AB3-B391-CBF3F3838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BFF2F-12F1-4841-9551-02C4248C52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819F0-9EFF-4DEA-836D-19649A538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A53B2-FB38-403C-AD0B-61FACCE20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45BCD-6452-4F8C-9859-C5646DA30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F8E3EB-40AD-4A04-85AA-974FC6C26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86A14-70DA-4ED8-B4E6-FC34636D2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E6D3C-63B2-4D56-8F9C-8B427FBB9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BF5C4-5707-4F80-9486-CC07E281E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C8CA8-F1BF-45A9-BCB9-3369ACEDD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750DDA-CF95-4777-A322-72D9CF55D4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A17AD-8AAC-4DE7-87DA-A96F709D90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5B382A-E756-4DA9-A001-AECFCEC1B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0D2F5-8906-47A4-9930-501B8FD57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495EC7-2DC2-4BEC-96A0-E2471BF19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93192-D708-4367-BDB2-BE2919C22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C000B-E943-44C3-95E3-7636F68E0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AC62F-3654-4E51-B74A-CABA37336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4F3D5-45AC-47DB-A184-3D999029C4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9125B-86AD-49AA-BA44-D8FDCC3ED7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7A03-DB0E-4212-90F1-17661F37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E6F04-61BB-4B92-A3C7-00D960CD8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A1A7C6-D604-4591-A0B4-7EEA7A0F72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DBF466-5586-4ED6-8B20-87E732D92C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A965EB-58D8-4034-B94A-BE9BD1409E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61472-C381-4105-B620-CBEE5E95F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380296-4F9D-4677-9F2C-7EE466FF5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12676-C9B3-404F-85C4-3F0583188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886C6-F925-47D1-A2C7-C1DE2C4C7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E67B3-E5F8-491F-B85B-95982C2CB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54C7E9-6D5B-4781-9B92-EAA94125C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9E0EA-2F5E-4A6A-AD11-F35F4EFC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E41C7-55F0-4CC9-8AEB-0A7337A67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32DDD-A382-4BBE-B31A-7CA7FF53A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7C4C8-BAC1-45B7-A029-7C3299221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5F20B3-784F-4021-91B5-22A179C393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AAFF13-E425-42EB-86B3-ED33B5072D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3E96E3-C9AE-44F1-A300-979397C859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D517C4-1357-41D8-AF95-79446FC5BE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E529D-C866-4274-BC02-D366695224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77719-08ED-433B-9945-3907566B0E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88B89-AEB9-45BE-B0A6-63162B949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F703-1B0E-4FEA-BAD3-6B2F7078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62265-91BC-40DF-AC9E-9A2A9AC04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BAF7B-DF41-4D1A-9319-B21A2D66C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CEEA7-0F5D-4470-B0D8-655064EFE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43D3D-7899-4AC9-A79D-0EDF60210D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D0D16-56D5-4D4C-A2D0-FAD4A5524E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59DBD8-76F4-4675-92D7-F293482940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F27B8E-ACBB-4ECB-8C71-6B5B9BD069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310255-CC67-45E2-BA7A-F7E0F00EB9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65AB6-B7E1-430C-AA63-9BF1BA36CD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0F19C-24F1-4BB7-96D2-69F0A234DF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6F95-5239-4266-8C18-92016F416525}"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AB4D-A6D9-4E16-8159-D3E2EE70701A}"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4BB2-1B4C-41C5-97B6-562F832D60B6}"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37E9-2FAE-4512-88C4-34AD085D6CED}"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E93F-7469-45BE-BBA7-0D095690091A}"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2B45-3919-4D19-BC5D-68E1B26A2759}"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9CD7-7554-46AC-B688-16B9C0EECD9E}"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C9B6-0030-4935-90CC-300707CD79A3}"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F1F3-D1BB-4D4F-BF25-790548203FA2}"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E8E4-E4BC-46C1-B171-4410403B57C9}"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4DA3-EE52-4AC8-9540-EB5194897898}"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3CD9-F98C-4421-A95C-B38F87B37146}"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427F-AB12-4185-A9A8-CCD0CF7AF68D}"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3BB2-82BD-433C-AEE2-ABADFD033575}"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CDE4-9557-411E-82A0-F1718985FE53}"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D9C6-3B35-46C9-851A-9430A127BBF0}"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DF08-E5DD-4956-BC59-42D3A73723C4}"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7E8A-9B11-43E8-8A9E-9EF33D413F15}"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image" Target="../media/image28.jpeg"/><Relationship Id="rId15" Type="http://schemas.openxmlformats.org/officeDocument/2006/relationships/image" Target="../media/image28.jpeg"/><Relationship Id="rId16" Type="http://schemas.openxmlformats.org/officeDocument/2006/relationships/image" Target="../media/image28.jpeg"/><Relationship Id="rId17" Type="http://schemas.openxmlformats.org/officeDocument/2006/relationships/image" Target="../media/image28.jpeg"/><Relationship Id="rId18" Type="http://schemas.openxmlformats.org/officeDocument/2006/relationships/slideLayout" Target="../slideLayouts/slideLayout25.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281160"/>
            <a:ext cx="6804000" cy="1766880"/>
          </a:xfrm>
          <a:prstGeom prst="rect">
            <a:avLst/>
          </a:prstGeom>
          <a:ln w="0">
            <a:noFill/>
          </a:ln>
        </p:spPr>
      </p:pic>
      <p:pic>
        <p:nvPicPr>
          <p:cNvPr id="408" name="Rectangle 8" descr=""/>
          <p:cNvPicPr/>
          <p:nvPr/>
        </p:nvPicPr>
        <p:blipFill>
          <a:blip r:embed="rId4"/>
          <a:stretch/>
        </p:blipFill>
        <p:spPr>
          <a:xfrm>
            <a:off x="2992320" y="5565600"/>
            <a:ext cx="2932200" cy="9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6" name="Picture 5" descr="dea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9" name="Picture 5" descr="bangladesh-independence-08-3-medium"/>
          <p:cNvPicPr/>
          <p:nvPr/>
        </p:nvPicPr>
        <p:blipFill>
          <a:blip r:embed="rId2"/>
          <a:stretch/>
        </p:blipFill>
        <p:spPr>
          <a:xfrm>
            <a:off x="539640" y="2565360"/>
            <a:ext cx="2725920" cy="3719520"/>
          </a:xfrm>
          <a:prstGeom prst="rect">
            <a:avLst/>
          </a:prstGeom>
          <a:ln w="0">
            <a:noFill/>
          </a:ln>
        </p:spPr>
      </p:pic>
      <p:pic>
        <p:nvPicPr>
          <p:cNvPr id="440" name="Picture 7" descr="001653"/>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3" name="Picture 5" descr="MC900055300[1]"/>
          <p:cNvPicPr/>
          <p:nvPr/>
        </p:nvPicPr>
        <p:blipFill>
          <a:blip r:embed="rId2"/>
          <a:stretch/>
        </p:blipFill>
        <p:spPr>
          <a:xfrm>
            <a:off x="611280" y="2276640"/>
            <a:ext cx="2808360" cy="2401560"/>
          </a:xfrm>
          <a:prstGeom prst="rect">
            <a:avLst/>
          </a:prstGeom>
          <a:ln w="0">
            <a:noFill/>
          </a:ln>
        </p:spPr>
      </p:pic>
      <p:pic>
        <p:nvPicPr>
          <p:cNvPr id="444" name="Picture 7" descr="MC900285958[1]"/>
          <p:cNvPicPr/>
          <p:nvPr/>
        </p:nvPicPr>
        <p:blipFill>
          <a:blip r:embed="rId3"/>
          <a:stretch/>
        </p:blipFill>
        <p:spPr>
          <a:xfrm>
            <a:off x="900000" y="4797360"/>
            <a:ext cx="1817640" cy="1797120"/>
          </a:xfrm>
          <a:prstGeom prst="rect">
            <a:avLst/>
          </a:prstGeom>
          <a:ln w="0">
            <a:noFill/>
          </a:ln>
        </p:spPr>
      </p:pic>
      <p:pic>
        <p:nvPicPr>
          <p:cNvPr id="445" name="Picture 42" descr="MC900432671[1]"/>
          <p:cNvPicPr/>
          <p:nvPr/>
        </p:nvPicPr>
        <p:blipFill>
          <a:blip r:embed="rId4"/>
          <a:stretch/>
        </p:blipFill>
        <p:spPr>
          <a:xfrm>
            <a:off x="3348000" y="2852640"/>
            <a:ext cx="1567080" cy="1567080"/>
          </a:xfrm>
          <a:prstGeom prst="rect">
            <a:avLst/>
          </a:prstGeom>
          <a:ln w="0">
            <a:noFill/>
          </a:ln>
        </p:spPr>
      </p:pic>
      <p:pic>
        <p:nvPicPr>
          <p:cNvPr id="446" name="Picture 43" descr="MC900432671[1]"/>
          <p:cNvPicPr/>
          <p:nvPr/>
        </p:nvPicPr>
        <p:blipFill>
          <a:blip r:embed="rId5"/>
          <a:stretch/>
        </p:blipFill>
        <p:spPr>
          <a:xfrm>
            <a:off x="2627280" y="5013360"/>
            <a:ext cx="1566720" cy="1566720"/>
          </a:xfrm>
          <a:prstGeom prst="rect">
            <a:avLst/>
          </a:prstGeom>
          <a:ln w="0">
            <a:noFill/>
          </a:ln>
        </p:spPr>
      </p:pic>
      <p:pic>
        <p:nvPicPr>
          <p:cNvPr id="447" name="Picture 45" descr="ANd9GcSy5w8EKlRmOBrOwrVSaBb8YiZPd7sc-JkTuUptPoIYnG77sPM&amp;t=1&amp;usg=__yaKD2x9A1csGWd_ArUpQTn-cY00="/>
          <p:cNvPicPr/>
          <p:nvPr/>
        </p:nvPicPr>
        <p:blipFill>
          <a:blip r:embed="rId6"/>
          <a:stretch/>
        </p:blipFill>
        <p:spPr>
          <a:xfrm>
            <a:off x="4932360" y="2492280"/>
            <a:ext cx="525600" cy="733680"/>
          </a:xfrm>
          <a:prstGeom prst="rect">
            <a:avLst/>
          </a:prstGeom>
          <a:ln w="0">
            <a:noFill/>
          </a:ln>
        </p:spPr>
      </p:pic>
      <p:pic>
        <p:nvPicPr>
          <p:cNvPr id="448" name="Picture 46" descr="ANd9GcSy5w8EKlRmOBrOwrVSaBb8YiZPd7sc-JkTuUptPoIYnG77sPM&amp;t=1&amp;usg=__yaKD2x9A1csGWd_ArUpQTn-cY00="/>
          <p:cNvPicPr/>
          <p:nvPr/>
        </p:nvPicPr>
        <p:blipFill>
          <a:blip r:embed="rId7"/>
          <a:stretch/>
        </p:blipFill>
        <p:spPr>
          <a:xfrm>
            <a:off x="4932360" y="3500280"/>
            <a:ext cx="525600" cy="733680"/>
          </a:xfrm>
          <a:prstGeom prst="rect">
            <a:avLst/>
          </a:prstGeom>
          <a:ln w="0">
            <a:noFill/>
          </a:ln>
        </p:spPr>
      </p:pic>
      <p:pic>
        <p:nvPicPr>
          <p:cNvPr id="449" name="Picture 47" descr="ANd9GcSy5w8EKlRmOBrOwrVSaBb8YiZPd7sc-JkTuUptPoIYnG77sPM&amp;t=1&amp;usg=__yaKD2x9A1csGWd_ArUpQTn-cY00="/>
          <p:cNvPicPr/>
          <p:nvPr/>
        </p:nvPicPr>
        <p:blipFill>
          <a:blip r:embed="rId8"/>
          <a:stretch/>
        </p:blipFill>
        <p:spPr>
          <a:xfrm>
            <a:off x="5651640" y="2492280"/>
            <a:ext cx="525240" cy="733680"/>
          </a:xfrm>
          <a:prstGeom prst="rect">
            <a:avLst/>
          </a:prstGeom>
          <a:ln w="0">
            <a:noFill/>
          </a:ln>
        </p:spPr>
      </p:pic>
      <p:pic>
        <p:nvPicPr>
          <p:cNvPr id="450" name="Picture 48" descr="ANd9GcSy5w8EKlRmOBrOwrVSaBb8YiZPd7sc-JkTuUptPoIYnG77sPM&amp;t=1&amp;usg=__yaKD2x9A1csGWd_ArUpQTn-cY00="/>
          <p:cNvPicPr/>
          <p:nvPr/>
        </p:nvPicPr>
        <p:blipFill>
          <a:blip r:embed="rId9"/>
          <a:stretch/>
        </p:blipFill>
        <p:spPr>
          <a:xfrm>
            <a:off x="5651640" y="3500280"/>
            <a:ext cx="525240" cy="733680"/>
          </a:xfrm>
          <a:prstGeom prst="rect">
            <a:avLst/>
          </a:prstGeom>
          <a:ln w="0">
            <a:noFill/>
          </a:ln>
        </p:spPr>
      </p:pic>
      <p:pic>
        <p:nvPicPr>
          <p:cNvPr id="451" name="Picture 49" descr="ANd9GcSy5w8EKlRmOBrOwrVSaBb8YiZPd7sc-JkTuUptPoIYnG77sPM&amp;t=1&amp;usg=__yaKD2x9A1csGWd_ArUpQTn-cY00="/>
          <p:cNvPicPr/>
          <p:nvPr/>
        </p:nvPicPr>
        <p:blipFill>
          <a:blip r:embed="rId10"/>
          <a:stretch/>
        </p:blipFill>
        <p:spPr>
          <a:xfrm>
            <a:off x="4140360" y="5013360"/>
            <a:ext cx="525240" cy="733320"/>
          </a:xfrm>
          <a:prstGeom prst="rect">
            <a:avLst/>
          </a:prstGeom>
          <a:ln w="0">
            <a:noFill/>
          </a:ln>
        </p:spPr>
      </p:pic>
      <p:pic>
        <p:nvPicPr>
          <p:cNvPr id="452" name="Picture 50" descr="ANd9GcSy5w8EKlRmOBrOwrVSaBb8YiZPd7sc-JkTuUptPoIYnG77sPM&amp;t=1&amp;usg=__yaKD2x9A1csGWd_ArUpQTn-cY00="/>
          <p:cNvPicPr/>
          <p:nvPr/>
        </p:nvPicPr>
        <p:blipFill>
          <a:blip r:embed="rId11"/>
          <a:stretch/>
        </p:blipFill>
        <p:spPr>
          <a:xfrm>
            <a:off x="4861080" y="5013360"/>
            <a:ext cx="525240" cy="733320"/>
          </a:xfrm>
          <a:prstGeom prst="rect">
            <a:avLst/>
          </a:prstGeom>
          <a:ln w="0">
            <a:noFill/>
          </a:ln>
        </p:spPr>
      </p:pic>
      <p:pic>
        <p:nvPicPr>
          <p:cNvPr id="453" name="Picture 51" descr="ANd9GcSy5w8EKlRmOBrOwrVSaBb8YiZPd7sc-JkTuUptPoIYnG77sPM&amp;t=1&amp;usg=__yaKD2x9A1csGWd_ArUpQTn-cY00="/>
          <p:cNvPicPr/>
          <p:nvPr/>
        </p:nvPicPr>
        <p:blipFill>
          <a:blip r:embed="rId12"/>
          <a:stretch/>
        </p:blipFill>
        <p:spPr>
          <a:xfrm>
            <a:off x="5580000" y="5013360"/>
            <a:ext cx="525600" cy="733320"/>
          </a:xfrm>
          <a:prstGeom prst="rect">
            <a:avLst/>
          </a:prstGeom>
          <a:ln w="0">
            <a:noFill/>
          </a:ln>
        </p:spPr>
      </p:pic>
      <p:pic>
        <p:nvPicPr>
          <p:cNvPr id="454" name="Picture 52" descr="ANd9GcSy5w8EKlRmOBrOwrVSaBb8YiZPd7sc-JkTuUptPoIYnG77sPM&amp;t=1&amp;usg=__yaKD2x9A1csGWd_ArUpQTn-cY00="/>
          <p:cNvPicPr/>
          <p:nvPr/>
        </p:nvPicPr>
        <p:blipFill>
          <a:blip r:embed="rId13"/>
          <a:stretch/>
        </p:blipFill>
        <p:spPr>
          <a:xfrm>
            <a:off x="6300720" y="5013360"/>
            <a:ext cx="525600" cy="733320"/>
          </a:xfrm>
          <a:prstGeom prst="rect">
            <a:avLst/>
          </a:prstGeom>
          <a:ln w="0">
            <a:noFill/>
          </a:ln>
        </p:spPr>
      </p:pic>
      <p:pic>
        <p:nvPicPr>
          <p:cNvPr id="455" name="Picture 53" descr="ANd9GcSy5w8EKlRmOBrOwrVSaBb8YiZPd7sc-JkTuUptPoIYnG77sPM&amp;t=1&amp;usg=__yaKD2x9A1csGWd_ArUpQTn-cY00="/>
          <p:cNvPicPr/>
          <p:nvPr/>
        </p:nvPicPr>
        <p:blipFill>
          <a:blip r:embed="rId14"/>
          <a:stretch/>
        </p:blipFill>
        <p:spPr>
          <a:xfrm>
            <a:off x="4140360" y="5877000"/>
            <a:ext cx="525240" cy="733320"/>
          </a:xfrm>
          <a:prstGeom prst="rect">
            <a:avLst/>
          </a:prstGeom>
          <a:ln w="0">
            <a:noFill/>
          </a:ln>
        </p:spPr>
      </p:pic>
      <p:pic>
        <p:nvPicPr>
          <p:cNvPr id="456" name="Picture 54" descr="ANd9GcSy5w8EKlRmOBrOwrVSaBb8YiZPd7sc-JkTuUptPoIYnG77sPM&amp;t=1&amp;usg=__yaKD2x9A1csGWd_ArUpQTn-cY00="/>
          <p:cNvPicPr/>
          <p:nvPr/>
        </p:nvPicPr>
        <p:blipFill>
          <a:blip r:embed="rId15"/>
          <a:stretch/>
        </p:blipFill>
        <p:spPr>
          <a:xfrm>
            <a:off x="4861080" y="5877000"/>
            <a:ext cx="525240" cy="733320"/>
          </a:xfrm>
          <a:prstGeom prst="rect">
            <a:avLst/>
          </a:prstGeom>
          <a:ln w="0">
            <a:noFill/>
          </a:ln>
        </p:spPr>
      </p:pic>
      <p:pic>
        <p:nvPicPr>
          <p:cNvPr id="457" name="Picture 55" descr="ANd9GcSy5w8EKlRmOBrOwrVSaBb8YiZPd7sc-JkTuUptPoIYnG77sPM&amp;t=1&amp;usg=__yaKD2x9A1csGWd_ArUpQTn-cY00="/>
          <p:cNvPicPr/>
          <p:nvPr/>
        </p:nvPicPr>
        <p:blipFill>
          <a:blip r:embed="rId16"/>
          <a:stretch/>
        </p:blipFill>
        <p:spPr>
          <a:xfrm>
            <a:off x="5580000" y="5877000"/>
            <a:ext cx="525600" cy="733320"/>
          </a:xfrm>
          <a:prstGeom prst="rect">
            <a:avLst/>
          </a:prstGeom>
          <a:ln w="0">
            <a:noFill/>
          </a:ln>
        </p:spPr>
      </p:pic>
      <p:pic>
        <p:nvPicPr>
          <p:cNvPr id="458" name="Picture 56" descr="ANd9GcSy5w8EKlRmOBrOwrVSaBb8YiZPd7sc-JkTuUptPoIYnG77sPM&amp;t=1&amp;usg=__yaKD2x9A1csGWd_ArUpQTn-cY00="/>
          <p:cNvPicPr/>
          <p:nvPr/>
        </p:nvPicPr>
        <p:blipFill>
          <a:blip r:embed="rId17"/>
          <a:stretch/>
        </p:blipFill>
        <p:spPr>
          <a:xfrm>
            <a:off x="6300720" y="5877000"/>
            <a:ext cx="525600" cy="733320"/>
          </a:xfrm>
          <a:prstGeom prst="rect">
            <a:avLst/>
          </a:prstGeom>
          <a:ln w="0">
            <a:noFill/>
          </a:ln>
        </p:spPr>
      </p:pic>
      <p:sp>
        <p:nvSpPr>
          <p:cNvPr id="459" name="Rectangle 57"/>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460" name="Rectangle 59"/>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3" name="Picture 7" descr="apollo_hospital_dhaka"/>
          <p:cNvPicPr/>
          <p:nvPr/>
        </p:nvPicPr>
        <p:blipFill>
          <a:blip r:embed="rId2"/>
          <a:stretch/>
        </p:blipFill>
        <p:spPr>
          <a:xfrm>
            <a:off x="6659640" y="2205000"/>
            <a:ext cx="2160360" cy="1389240"/>
          </a:xfrm>
          <a:prstGeom prst="rect">
            <a:avLst/>
          </a:prstGeom>
          <a:ln w="0">
            <a:noFill/>
          </a:ln>
        </p:spPr>
      </p:pic>
      <p:pic>
        <p:nvPicPr>
          <p:cNvPr id="464" name="Picture 9" descr="P395"/>
          <p:cNvPicPr/>
          <p:nvPr/>
        </p:nvPicPr>
        <p:blipFill>
          <a:blip r:embed="rId3"/>
          <a:stretch/>
        </p:blipFill>
        <p:spPr>
          <a:xfrm>
            <a:off x="250920" y="2997360"/>
            <a:ext cx="3816360" cy="2736720"/>
          </a:xfrm>
          <a:prstGeom prst="rect">
            <a:avLst/>
          </a:prstGeom>
          <a:ln w="0">
            <a:noFill/>
          </a:ln>
        </p:spPr>
      </p:pic>
      <p:pic>
        <p:nvPicPr>
          <p:cNvPr id="465" name="Picture 11" descr="ANd9GcTqUOMbU5mW1Z_TqSHXk2Cfv12jZQW6ABd2VkF-Q043QWUiR54&amp;t=1&amp;h=167&amp;w=222&amp;usg=__aSi76dLxVC0_g5-iwqJ1fmmko7A="/>
          <p:cNvPicPr/>
          <p:nvPr/>
        </p:nvPicPr>
        <p:blipFill>
          <a:blip r:embed="rId4"/>
          <a:stretch/>
        </p:blipFill>
        <p:spPr>
          <a:xfrm>
            <a:off x="4211640" y="2205000"/>
            <a:ext cx="2160720" cy="1417680"/>
          </a:xfrm>
          <a:prstGeom prst="rect">
            <a:avLst/>
          </a:prstGeom>
          <a:ln w="0">
            <a:noFill/>
          </a:ln>
        </p:spPr>
      </p:pic>
      <p:pic>
        <p:nvPicPr>
          <p:cNvPr id="466" name="Picture 13" descr="ANd9GcQ5lmw15uXMjlTRqJv_pIddFzpy3cEbUHWCDRNJPmzDgDz0Z9o&amp;t=1&amp;usg=__VC2jVdrb17NtxWIpTQQuvpfJvQE="/>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Picture 5" descr="confusion"/>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2" name="Picture 5" descr="gender gap"/>
          <p:cNvPicPr/>
          <p:nvPr/>
        </p:nvPicPr>
        <p:blipFill>
          <a:blip r:embed="rId2"/>
          <a:stretch/>
        </p:blipFill>
        <p:spPr>
          <a:xfrm>
            <a:off x="324000" y="3357720"/>
            <a:ext cx="5715000" cy="2743200"/>
          </a:xfrm>
          <a:prstGeom prst="rect">
            <a:avLst/>
          </a:prstGeom>
          <a:ln w="0">
            <a:noFill/>
          </a:ln>
        </p:spPr>
      </p:pic>
      <p:pic>
        <p:nvPicPr>
          <p:cNvPr id="473" name="Picture 7" descr="ANd9GcTIrGIwJxRPJC9kCt2Jm2WyEb4hwVt38MGnWG3s-bmxlwHRbhI&amp;t=1&amp;usg=__hYpO2p-IJyNg-rRZMcbPdFx3wLQ="/>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6" name="Picture 5" descr="oral-contraceptives-for-acne"/>
          <p:cNvPicPr/>
          <p:nvPr/>
        </p:nvPicPr>
        <p:blipFill>
          <a:blip r:embed="rId2"/>
          <a:stretch/>
        </p:blipFill>
        <p:spPr>
          <a:xfrm>
            <a:off x="4643280" y="3068640"/>
            <a:ext cx="3800520" cy="2523960"/>
          </a:xfrm>
          <a:prstGeom prst="rect">
            <a:avLst/>
          </a:prstGeom>
          <a:ln w="0">
            <a:noFill/>
          </a:ln>
        </p:spPr>
      </p:pic>
      <p:pic>
        <p:nvPicPr>
          <p:cNvPr id="477" name="Picture 18" descr="ANd9GcR0SshzZGjM_s-RQ3ArAh4Kx0jOZDpmmlqiVEoxpjtjPzNqeCQ&amp;t=1&amp;usg=__EYfbyfU_wir7t8RTco-G5eBs9QQ="/>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9" name="Picture 6" descr="MC900242001[1]"/>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1" name="Picture 10"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14" name="Picture 5" descr="Source: CIA World Factbook"/>
          <p:cNvPicPr/>
          <p:nvPr/>
        </p:nvPicPr>
        <p:blipFill>
          <a:blip r:embed="rId2"/>
          <a:stretch/>
        </p:blipFill>
        <p:spPr>
          <a:xfrm>
            <a:off x="4500720" y="1773360"/>
            <a:ext cx="4392360" cy="3816360"/>
          </a:xfrm>
          <a:prstGeom prst="rect">
            <a:avLst/>
          </a:prstGeom>
          <a:ln w="0">
            <a:noFill/>
          </a:ln>
        </p:spPr>
      </p:pic>
      <p:pic>
        <p:nvPicPr>
          <p:cNvPr id="415" name="Picture 6"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7"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18" name="Picture 5"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WordArt 4"/>
          <p:cNvSpPr txBox="1"/>
          <p:nvPr/>
        </p:nvSpPr>
        <p:spPr>
          <a:xfrm>
            <a:off x="755640" y="1916280"/>
            <a:ext cx="7848720" cy="39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First Five Year Plan</a:t>
            </a:r>
            <a:endParaRPr b="0" lang="en-US" sz="2400" spc="1" strike="noStrike">
              <a:ln w="19080">
                <a:solidFill>
                  <a:srgbClr val="008080"/>
                </a:solidFill>
                <a:miter/>
              </a:ln>
              <a:solidFill>
                <a:srgbClr val="f83622"/>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1" name="PlaceHolder 2"/>
          <p:cNvSpPr>
            <a:spLocks noGrp="1"/>
          </p:cNvSpPr>
          <p:nvPr>
            <p:ph/>
          </p:nvPr>
        </p:nvSpPr>
        <p:spPr>
          <a:xfrm>
            <a:off x="250920" y="3860280"/>
            <a:ext cx="8686800" cy="452628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2" name="WordArt 5"/>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DPP</a:t>
            </a:r>
            <a:endParaRPr b="0" lang="en-US" sz="2400" spc="1" strike="noStrike">
              <a:ln w="19080">
                <a:solidFill>
                  <a:srgbClr val="008080"/>
                </a:solidFill>
                <a:miter/>
              </a:ln>
              <a:solidFill>
                <a:srgbClr val="f83622"/>
              </a:solidFill>
              <a:latin typeface="Arial Black"/>
              <a:ea typeface="Arial Black"/>
            </a:endParaRPr>
          </a:p>
        </p:txBody>
      </p:sp>
      <p:pic>
        <p:nvPicPr>
          <p:cNvPr id="423" name="Picture 6" descr="bangladesh_map"/>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25" name="Picture 4" descr="0yHFg0UZOIDr_Halida_large"/>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7" name="PlaceHolder 2"/>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8" name="Picture 11" descr="populationPyramid"/>
          <p:cNvPicPr/>
          <p:nvPr/>
        </p:nvPicPr>
        <p:blipFill>
          <a:blip r:embed="rId2"/>
          <a:stretch/>
        </p:blipFill>
        <p:spPr>
          <a:xfrm>
            <a:off x="250920" y="2421000"/>
            <a:ext cx="2952720" cy="2055600"/>
          </a:xfrm>
          <a:prstGeom prst="rect">
            <a:avLst/>
          </a:prstGeom>
          <a:ln w="0">
            <a:noFill/>
          </a:ln>
        </p:spPr>
      </p:pic>
      <p:pic>
        <p:nvPicPr>
          <p:cNvPr id="429" name="Picture 12" descr="populationPyramid"/>
          <p:cNvPicPr/>
          <p:nvPr/>
        </p:nvPicPr>
        <p:blipFill>
          <a:blip r:embed="rId3"/>
          <a:stretch/>
        </p:blipFill>
        <p:spPr>
          <a:xfrm>
            <a:off x="3132000" y="4533840"/>
            <a:ext cx="3024360" cy="2106720"/>
          </a:xfrm>
          <a:prstGeom prst="rect">
            <a:avLst/>
          </a:prstGeom>
          <a:ln w="0">
            <a:noFill/>
          </a:ln>
        </p:spPr>
      </p:pic>
      <p:pic>
        <p:nvPicPr>
          <p:cNvPr id="430" name="Picture 13" descr="populationPyramid"/>
          <p:cNvPicPr/>
          <p:nvPr/>
        </p:nvPicPr>
        <p:blipFill>
          <a:blip r:embed="rId4"/>
          <a:stretch/>
        </p:blipFill>
        <p:spPr>
          <a:xfrm>
            <a:off x="5940360" y="2492280"/>
            <a:ext cx="2905200" cy="20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3" name="Picture 5" descr="bir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20:21Z</dcterms:created>
  <dc:creator>Lancaster</dc:creator>
  <dc:description/>
  <dc:language>en-US</dc:language>
  <cp:lastModifiedBy>Phil Randay</cp:lastModifiedBy>
  <dcterms:modified xsi:type="dcterms:W3CDTF">2010-10-14T19:05:29Z</dcterms:modified>
  <cp:revision>30</cp:revision>
  <dc:subject/>
  <dc:title>Slide 1</dc:title>
</cp:coreProperties>
</file>