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DB7-2A7F-476D-A985-062E526D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7C6-6929-4ADC-8B85-F44C1EB5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48A-D929-4E71-B635-4B5C8248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A92-ECB2-49E2-926D-F8067598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9184-40A3-4FCD-ACCB-E01CDE55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E1E8-BCCC-414E-9D2F-9972336B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7EC0-1E6F-46AD-AACE-B42FE1D3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B8E7-485C-4340-BE46-E2B7E38D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C4AA-B713-4122-B54D-8EDEBF40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021C-815D-4EFD-8EC1-270D6C69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8090-0D1B-4B34-80E4-66EFB942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C7D-CE94-4B25-89C9-FD8FB53E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86EE-C9A0-4294-A4AC-A8144D67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CFB6-0A22-473C-8DEF-FA73D836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872F-2038-4824-A356-E4B85169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7FEF-3E84-4A6F-A251-3D663BC7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66FD-904B-43FA-8655-A4E70EFB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3288F-0433-4F6C-B865-6733BD99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DE042-0092-4CC3-814C-2741DE39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4314E-1220-478C-A9D5-49127091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05F9F-58D1-4C35-A6D0-28DD7744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3C35C-9A11-40D1-AC0A-83D9BBB0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1E2-7C41-4414-8AB6-5C2725FD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9777B-2787-4AB6-8E9A-70F8BD49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9CEFC-A956-4B20-AF0D-BECA98D5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25BE6-F59F-4238-A0F0-95B87BDA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B3536-7C80-4B1D-BD5F-E0417903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B2A89-7655-416D-8E0C-9A71F612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5452A-4869-46E4-B80B-98A17518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51757-FA92-4FD5-8AAF-BE2F46BF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4D629-1092-4658-9D18-974F7D6D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F8258-4525-4237-92A5-13701C23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796ED-91AD-4367-B6AA-56FB1FC1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EFA-8167-4CF5-805F-CB979F34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7F74E-8C26-4A6B-B187-60E4E641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6DE3A-7FE5-43D0-B3E0-A7697AEC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ED812-49CD-4A0A-B982-2BB20845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7EB6F-23B8-4FEF-A655-A361805B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2F327-5163-4368-86FA-108E5AA4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E39A4-9877-424F-9A5D-A99C66B9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FA347-F882-42E7-B2DA-BDFD3F04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AD6D7-6B0A-4B21-8C46-CBE977AB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6D7AF-3D63-4AF4-BF4D-84C540CC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7EE9-34B5-45BC-A889-721F04DD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0A7-AC74-4B58-947C-A59D968F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E5C7-9F81-439E-ADF4-BFC17512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1BA-17CE-4883-BC9A-513EF6A3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AD7-D578-424D-81D7-4F195F1C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CF0F-6640-4549-AA2F-9A2ED999DF05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B462-F494-47BF-9B76-10DBC4C05C22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D0C9-8864-46F9-B057-3D843DB4427B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A28B-7519-4F4C-9090-51BD7488CD25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-219240" y="1133640"/>
            <a:ext cx="9496440" cy="206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razilianSociety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oor -  fertility rate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74-197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changed attitu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amily Plan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formation, contraceptives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0 per 1000 birth rate targ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fail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ople oppose poli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 natalist vi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der fin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lonial Peri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– Control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l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ndependence - 1822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igration – Eur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2928960"/>
          <a:ext cx="9144000" cy="3714840"/>
        </p:xfrm>
        <a:graphic>
          <a:graphicData uri="http://schemas.openxmlformats.org/drawingml/2006/table">
            <a:tbl>
              <a:tblPr/>
              <a:tblGrid>
                <a:gridCol w="2292480"/>
                <a:gridCol w="1784160"/>
                <a:gridCol w="1665360"/>
                <a:gridCol w="1531800"/>
                <a:gridCol w="1870200"/>
              </a:tblGrid>
              <a:tr h="185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i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30- 18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56-1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84-18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94-1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tugue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,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6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0,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5,5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00’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= Desti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950s, 60s – Decre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50-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dustry + Economic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ual population growth decreas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ealth,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bortion and Steri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ffect – upper, middle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razilian Society of Family Welfa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4:23:32Z</dcterms:created>
  <dc:creator>Lancaster</dc:creator>
  <dc:description/>
  <dc:language>en-US</dc:language>
  <cp:lastModifiedBy>LANCASTER_2</cp:lastModifiedBy>
  <dcterms:modified xsi:type="dcterms:W3CDTF">2010-10-08T17:12:10Z</dcterms:modified>
  <cp:revision>18</cp:revision>
  <dc:subject/>
  <dc:title>Population Policies in Brazil.</dc:title>
</cp:coreProperties>
</file>