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178-368F-4EBF-8EC2-963606E5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9BE-E602-428A-8836-DCDC1D9C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D2A-A93D-4F4B-A500-6B1B4AB7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8D0-BCA6-4C16-B61F-21ECD3C6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F0B6-F56C-49B3-A905-CE4CB499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A704-A84B-4C12-B4F2-230178F9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3215-D76C-4EB9-852A-CCE32E1B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1465-0309-4EC2-B64A-E4AAC29D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C41E-90F5-43AB-BE6B-0C9432B1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8A27-0392-40EC-92F2-9A44DA2A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3D96-D1FB-4F88-9F45-10770EE9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D36-27E5-4FA7-AC15-AF42507B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D02E-DD98-4597-949D-F94E4D7E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4EF0-D1BC-4181-BB2F-AFE0CF05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26C4-C1EC-47AD-AB28-3419A34B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1A1C-754E-4356-A25B-E95BCBBE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C2A2-401B-418E-BF43-218F5334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F938A-4E38-414C-A93F-4521D615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D8348-27F8-4F4D-BA5B-1BCC489C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B6792-6CBA-4DDF-9BB6-FA677DF1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178A6-C9B6-44D0-B8DA-178665B3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C8D4-79E6-4E5F-8946-880538D4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AC5-DC58-42E0-963C-099AB244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A5828-0E11-49A9-B59E-D454F1A7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D86B2-DE45-4D98-8C21-C80F5C7A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4AF6A-CBCC-48B8-AFE2-7A834081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5B1C0-F041-4100-BEA1-AEEF7020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2763-80FE-40C5-82E4-01168B66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88D5-2708-4AAB-9295-2A1E338F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CC003-6ABD-49E9-830B-20302D46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4FA33-A363-4609-9192-6129EFC2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BB0A6-9E54-406B-8D79-8AEEA473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E5973-C1A8-41BF-9F84-9E1F7D1D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0D3-DCA5-4720-AE67-D32FCF07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5239B-DB7A-48A5-B057-99F9D726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BAEAE-2BCF-450E-BF33-28020FFB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EE486-28D1-4C30-AD37-FFBA2AD2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5F901-B211-40A3-9FC6-BEAA6AA7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D7D1F-24AD-4B28-83AD-DC64C175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E7D85-868A-4C48-B2FA-30A4C485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9E5D0-1894-4D8A-857C-CAC14CEF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AFCB7-E049-4E9C-BA5A-33B65B9A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30985-5B0A-42D2-B20D-1D7F65A0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452-0D9C-4381-935C-63A35DB6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3AE-7DFF-4E24-BBCF-299CD9FA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C9D4-AF6A-454B-888F-1D822CC7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9A9-8D92-4BC8-ACB2-AE53158D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3DC-221B-4835-AEB9-36140487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91B2-5BD6-45DB-ABB3-7BF64B27B549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059D-D114-4138-A67A-40B1878AE171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AFEF-545C-4820-8412-1FD4306E3C8E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44B1-10F9-4878-BC93-DEABA610C438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219240" y="1133640"/>
            <a:ext cx="9496440" cy="206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razilianSociety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oor -  fertility rate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74-19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changed attitu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mily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ormation, contraceptiv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0 per 1000 birth rate targ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fai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oppose poli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 natalist 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der fin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lonial Peri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– Control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l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dependence - 1822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igration –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2928960"/>
          <a:ext cx="9144000" cy="3714840"/>
        </p:xfrm>
        <a:graphic>
          <a:graphicData uri="http://schemas.openxmlformats.org/drawingml/2006/table">
            <a:tbl>
              <a:tblPr/>
              <a:tblGrid>
                <a:gridCol w="2292480"/>
                <a:gridCol w="1784160"/>
                <a:gridCol w="1665360"/>
                <a:gridCol w="1531800"/>
                <a:gridCol w="187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30- 18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56-1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84-1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4-1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ue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5,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00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= Desti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950s, 60s – Decre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50-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dustry + Economic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ual population growth decre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ealth,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bortion and Ster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fect – upper, middle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azilian Society of Family Welf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4:23:32Z</dcterms:created>
  <dc:creator>Lancaster</dc:creator>
  <dc:description/>
  <dc:language>en-US</dc:language>
  <cp:lastModifiedBy>LANCASTER_2</cp:lastModifiedBy>
  <dcterms:modified xsi:type="dcterms:W3CDTF">2010-10-08T17:12:10Z</dcterms:modified>
  <cp:revision>18</cp:revision>
  <dc:subject/>
  <dc:title>Population Policies in Brazil.</dc:title>
</cp:coreProperties>
</file>