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ECF-B931-4AC1-B216-1E063EB8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13B-0E8F-4418-AE81-3A0CF94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CCA-CE13-436A-A4BC-139F2E13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0F8-1E28-4807-8A64-AA23197F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D5B4-959F-4F36-85CE-CB3309B3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E703-BE2D-49F0-879D-D08A57DC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D1E5-6ECD-48DD-9233-F84CC34D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0D2-A198-4ABE-B109-92F42C5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9DEB-B48D-4F82-8F58-B2EEF3D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A290-D82C-44A5-B83F-4C7B082B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CFD-E89A-406D-A972-37CDC43B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DCC-2AE8-4E20-89DE-77508052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6F48-D336-4EEE-8774-6D6AFCB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6EE7-B4E7-4612-8B85-5681695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523C-7B07-4B6E-B50E-8441326B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1D23-48AF-4202-ACE1-371F9DB5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5103-5861-4D62-BD5D-5FD543AD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209A-36AB-4426-8C82-FE1BC6B3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A71C-FB73-481A-97D1-69C1E87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42DB-7564-47B1-AC81-7E774E35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1728-B323-4705-BC40-ED157AE4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2A21A-9176-4761-9CB9-D808F0DD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5B6-F475-4060-A416-2238FF4F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DBFE-1605-4550-BD54-CE2EB943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A9DC-491B-4990-A78A-30F3200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7C39-305C-4F33-AD47-2864E027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9010-8229-479F-A91A-4A37AB9D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8097-F3D7-4AB1-AA05-1A7608F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0658-EC30-49FE-93A1-64345452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D442-ADAA-4480-8F8A-8349A68F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6FB0-DCA8-46C1-B075-8988C8D1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EB7C-EFE3-4A96-BF7C-E1B60E95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F830-4B2C-478E-9A86-343E634E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C01-7F94-44C5-B10B-83F59ACE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7F8F-CBCD-4C70-A886-44CB7039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50BB-8B50-49D9-9DD5-1A7C6F02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DC5F-BCC3-4C38-BED5-53B07A7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BC40-AF03-4B8C-87D5-BD916F5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9224-6B3D-4637-871B-2A1EF00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42B2-33C7-43EA-AD4E-7010B4A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95F78-2829-48D6-B2FF-F8B35088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92D1-4A22-43E0-B273-928136C3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9F5C-6482-46D3-90E6-C0844CA4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F23-F776-494B-9B16-1C1A826D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FC6-B215-4C79-8233-D56B813A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D4F-DA4B-4455-A241-3199DC0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1F8-BAB6-40B1-84DF-4A143F3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C17-367C-4E1D-B6FB-418FDB2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B7C3-3B8C-4980-A1A4-880E5FD1B110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15A3-AB08-4B08-83EF-332C5D9C6BB2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927-2C63-49D5-92A1-CF8ACEEBFCEF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A10-2CA4-4DB7-8478-5A92CA04148E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0:30Z</dcterms:modified>
  <cp:revision>17</cp:revision>
  <dc:subject/>
  <dc:title>Population Policies in Brazil.</dc:title>
</cp:coreProperties>
</file>