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8F9-9BCB-4F03-B38E-961A7245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A37-F824-4D09-BA4F-9C49FBD1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A18-2594-4FCB-AA0B-7F154729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8B1-C00E-4620-B2E1-79BE8536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4114-9DA1-471B-B9CE-2662C1FC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2A8D-E626-407B-9AE6-48F91F6A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0A9D-09F9-40C9-B442-C498EAF1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2CC0-9231-406A-874F-B629FA82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820E-A591-4CB2-8A70-D1E9E489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7D83-7809-4EAB-93ED-B115C351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44EC-8E83-4312-9AD6-C6BFD274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6F6-A222-4DE7-8AA7-1381D5F1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9B7E-4276-4527-AC07-99A095AD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BBF6-32F2-4504-BA87-EE752BE9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3C2D-D831-4235-B25D-6BA2039B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EA5F-DF51-425E-A41D-7D5381BB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3376-DF2F-490E-931F-BAD91A59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AB262-1CC8-4204-9E01-83DD8196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047AF-4A13-4A21-9D86-BCBA346F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A14A-5888-472F-B6B5-AC9D0F62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A28D5-B2D2-4AB8-8267-75BC2BD9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8F8B6-B916-475F-A513-9839AB64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789-ADB2-4B26-9485-F451B7A5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13D45-12AE-4FED-B012-925E07BD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BE75A-9E92-4AEA-B2D4-42541F29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62490-CC88-4B39-90C5-27B5EEDA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07033-EC44-4D6C-9871-1D83F1FD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2A80-7238-446E-AF19-60832B93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42227-DE0F-4617-B63F-C68DC2FE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2FA9A-AE35-4CD0-B9D4-945DC479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7928D-725A-4E4A-96E0-94A51A11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DEB65-230A-48CA-B2AA-B9777AB6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C8058-F218-4641-9015-9E4A7E29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A9F8-886A-46EC-A129-6103F4DF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3A42B-2BFE-4D2D-B941-1F09C26E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0E1E7-8FB9-4993-9BE5-A1F8BFE8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045F8-DB34-4D3C-8B7B-0E5F5B82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AD415-3E4F-4FA0-9F83-E342DCB6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ABFDF-2CCB-43B9-960D-7DBB4FD0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8328-562E-47EC-8849-4B1EF49A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F07F6-D5E9-4584-9261-2EAD88CE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82BD5-5F44-427B-9159-1EF8F9BC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DD966-D859-42BA-94F1-8B81CA2F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A8B0-8EBD-490E-9F06-2628EBD1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71F-78E7-4849-AE00-75B41E09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A7D-296E-4260-9B69-973A38FD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5B8E-82F0-49F1-AA3B-F937D12F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BE9-DEB4-417D-AC46-FE1A021C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5559-2148-4988-B9D5-2B77BB1B9F51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AF66-54C6-4AE7-956D-8376219BD89F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7C5A-EDB5-4843-8713-1A03BCEC17AB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2E25-C025-4359-BBA1-A53022424489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219240" y="1133640"/>
            <a:ext cx="9496440" cy="206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razilianSociety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oor -  fertility rate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74-19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changed attitu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mily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ormation, contraceptiv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0 per 1000 birth rate targ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fai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oppose poli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 natalist 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der fin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lonial Peri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– Control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l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dependence - 1822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igration –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2928960"/>
          <a:ext cx="9144000" cy="3714840"/>
        </p:xfrm>
        <a:graphic>
          <a:graphicData uri="http://schemas.openxmlformats.org/drawingml/2006/table">
            <a:tbl>
              <a:tblPr/>
              <a:tblGrid>
                <a:gridCol w="2292480"/>
                <a:gridCol w="1784160"/>
                <a:gridCol w="1665360"/>
                <a:gridCol w="1531800"/>
                <a:gridCol w="187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30- 18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56-1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84-1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4-1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ue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5,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00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= Desti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950s, 60s – Decre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50-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dustry + Economic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ual population growth decre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ealth,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bortion and Ster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fect – upper, middle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azilian Society of Family Welf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4:23:32Z</dcterms:created>
  <dc:creator>Lancaster</dc:creator>
  <dc:description/>
  <dc:language>en-US</dc:language>
  <cp:lastModifiedBy>LANCASTER_2</cp:lastModifiedBy>
  <dcterms:modified xsi:type="dcterms:W3CDTF">2010-10-08T17:10:30Z</dcterms:modified>
  <cp:revision>17</cp:revision>
  <dc:subject/>
  <dc:title>Population Policies in Brazil.</dc:title>
</cp:coreProperties>
</file>