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AB7-D3E3-495C-8503-AB6C24D3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E43-F1D9-461D-AAE2-5C5E900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0D2-D95A-4D08-AF4C-1FAD322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B2F-355C-4D9A-8282-B0513802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60F9-8C71-4393-91CE-C75B21E7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B03-5824-4683-880D-D355A15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5F25-4F10-413E-AACF-1982979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9AE3-7633-41C6-8E59-535BAC0E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2A8B-A725-49B0-BE64-B237813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9909-876D-47AF-BCEB-FE3F0B59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A0E9-9E16-4E94-8CD0-DC1F29E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81E-B0C2-4515-8456-9E61F40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8C7-FA74-4522-A313-4DA01DB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D02-60EB-4F97-8795-9613623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B03-72AF-48A2-9FFA-CD49102E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3664-E552-44D2-8071-AE460F50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D362-4BBE-45E5-8F63-5571A091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36A0-D50B-48F3-AFE7-53F2A4AF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CC29-60A8-4F69-90D9-156FB26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CC3A7-2E92-4AD6-86C5-41A0D90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9D07-5495-4CD2-9EA7-6EA6EB0E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94C1-9BC6-44B0-B87F-E5637F1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B1F-98E0-42AC-A396-782EB83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7EB4-293E-495D-812B-FBD255C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6E8A-6102-4930-BE3B-16DDD815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A097-94BB-40E3-AEF7-2CC678D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C32B-F5CB-4C46-8913-8B7C76C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018F-0F0B-41EF-A8B1-BAC9766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603A-E0D1-468F-9612-17DCA4D2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C217-87A4-410F-999F-894B0230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A35D-3155-4D88-A098-CC46AF84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CA4ED-8A69-4337-8B0B-2DC3935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1957-036E-4B09-9014-371EAEF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926-7F6C-4FD9-86FF-03D9E949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3AF4-0632-41CA-A150-1DD397AD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DE1D-84E5-46AC-89F9-75FE6612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3629-5977-4372-9D5D-C882F77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37783-7BC9-4CBE-B2B3-2B95113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0234-5CE4-4A67-AD76-DD29DEE2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0EEA-A8B5-444F-B008-9FBED8F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0EEF7-62D2-40D2-876E-533A0C2E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41E1D-0DE2-4485-93BC-9768E12F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BF0F-30B1-4B9C-89D6-4E69F678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53D-FEAD-4114-8F7D-ABCB7C5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412-4B53-4B5C-A99D-196D0BFB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76C-34BE-4DFD-B541-5D3B292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9AE-1D21-4391-B54D-9D6866B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DE8-280E-4F95-AC02-6C77094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395E-0948-4BFC-A263-240337B85F8C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6F9-1F5D-4CCE-B025-AC3F1A6C6327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E061-8072-4C53-AA49-46FF4DA65034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985F-B498-428F-AB6A-051C3735C1C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0:30Z</dcterms:modified>
  <cp:revision>17</cp:revision>
  <dc:subject/>
  <dc:title>Population Policies in Brazil.</dc:title>
</cp:coreProperties>
</file>