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456-D418-4636-A525-D6B0599A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2F6-F40C-42CA-802C-2E970D30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2C0-13E3-47A1-8271-4510E5EF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650-5A66-4B4F-860A-F2C7ACFB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CD4D-1B8A-423A-8CED-977C6EF7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E5EC-4F74-4231-8C89-87C5397B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482-7B3F-47FA-A332-4DC25EE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C123-C041-493A-AF90-5A9548DB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37B-60E6-4379-9041-1DD514E0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2213-5DAE-481B-ADDF-670D6B8B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768E-5C35-437A-96B1-3B35AB1D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173-191A-426F-BB27-B8B60306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01D1-BC6C-4CC2-B218-75811D6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358E-85FF-4D0A-B02E-20DF97D1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3B54-B1AB-4F62-A056-33A05AC2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96FB-99C0-4027-BDD4-18EEC47F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FED-08C3-4E35-9672-31B42AF5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B3AC-403A-4227-9E56-BA6B793F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5F8A-4446-4785-9E31-B9959D0A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4826-5349-425F-9FE7-8B500149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DC4E-AFE5-441D-A88D-C7D0C72C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9A85-9489-46D8-8E0C-35A0D16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09A-74A9-4584-8541-DEB7D272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40E5-F5DE-44D2-AC91-71E6ED5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1519-73F0-4359-BBEE-A5089E5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4FD3-895F-426C-8441-87D2659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5A92-678C-490F-984B-9ACA6C17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3453-AE5B-4486-9DF8-6F0FED0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11A3-39F8-48D7-886B-DDB60270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697F-851B-4F94-B106-3297BFAA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6F84-F993-43BE-AB5A-97DB2E9F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057B-9E26-45D6-9743-6B5034C9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2B73-694B-40CC-8424-B5C9313C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B4E-39DD-4BEF-823C-B8330F82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D0AB-7CC5-4EDA-8775-4A6DB305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FAEB-EB26-4940-B357-1999574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9341-C04A-4B52-9035-E32FEC45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1F37-1251-4661-B2C7-5020A53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3376-DD02-4136-BBE1-C1634E6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3094-4FB4-4CD9-A855-A80A6C4D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B0DE-CC7D-4C7D-8F87-9808257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067F-ADB3-4F17-8F9C-E3BC12BA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F39A-BC66-4823-AE19-092EA63A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CFB-2D56-4573-98EC-6C76643A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209-6F6D-4D59-B568-0E6993F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4A9-F0F6-437B-9F58-2CBC2E8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F25-8FB7-40E6-9B36-4021ED4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456-2698-48EB-B365-BEC37E9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F7BD-3748-4BBC-B310-D2F34F9060A6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3937-846B-4717-BD64-E28848D64548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809F-4212-40CE-B21E-EE2A495854A5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E757-A675-48E1-93E6-D1D598214E5B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0:30Z</dcterms:modified>
  <cp:revision>17</cp:revision>
  <dc:subject/>
  <dc:title>Population Policies in Brazil.</dc:title>
</cp:coreProperties>
</file>