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0BD-0E67-4FC7-BB85-AA414BBB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CE5-9E7A-44B1-ACFC-5FB17A95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F84-8AB9-4267-AD8F-64A5C752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DFF-0C43-402D-AE9E-7712C231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2C0D-85C2-4980-A752-7F76184E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A121-0160-4203-BD61-B39D6DFD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E288-E755-4B79-A708-D9D0DC37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C268-D7CD-460E-BFE8-68045EE7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565C-A15D-4007-97C3-53AF348F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02B1-9DBB-4EF0-B87F-28775669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9A49-C064-4E72-82B5-78BF4859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0CE-4981-4D8A-B3C2-1704DA5B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84A6-785C-4C9B-BFEE-29CBF973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CDBA-9C73-4063-AEEA-75DAD5A0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C2EA-69DA-4D18-B8AB-2D4CE157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946C-7B81-4E98-B085-6A9BD066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1473-7A1A-4805-9F47-EEBD6E6A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854C-6F94-4B49-918D-F6FA9DFB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64CF-4988-4D6C-923E-392E7B80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41D6-EBAF-4A6B-ADC3-2ADC6563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5FC3-FC65-48F6-8331-B0453E70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34B9-5B34-43B9-9D6F-E84A9D16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623-249B-48B8-8128-10E997A6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A98F-06E1-4EBC-B732-DA5328C1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E5CD9-6EED-46DE-9DA8-3C94E232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2022-D725-4F20-B505-953C0413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C633-5E9A-4248-9683-272F7736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9127-128A-4FF9-9EE6-B306E3CB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EA58-343C-4BCF-8A35-0AA69749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D564-0874-4D7E-BBA0-8B37ECB0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DD99C-0A9A-4393-9EC9-DA254CFF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855C7-59A3-4513-A48D-10015753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27143-FF17-442A-98EC-E3701FBF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1B3-FC75-4664-8D37-0521D51B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E9B83-022B-4283-9589-88FF6A11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94E2-29D8-459E-8916-1A0CDA7F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76B32-626D-498A-9071-AE72D8B9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96A49-F986-421F-9A77-7C56EB38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DB60-3808-4181-B725-90BE62D9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4220-9714-4165-964E-FB99A993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8787B-4A6F-4955-8D1E-356E1AB8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39727-F949-4C86-B3BD-90FA6A66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4B6F9-D16E-43D6-96D9-559185B7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15C-4583-49C9-AB74-43878CC1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3A9-5D8D-4A59-9F01-84EF6A1D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2BB-CDDC-45FF-8939-360998F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657-26F1-4B65-9FFF-CCC684D0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907-A8AA-4224-8F68-BCA293FC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1851-FA1F-428B-8C48-9ABCB4A9288B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FB38-DB23-4BE0-9CA8-B6072C02385F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C6DD-191B-4527-A336-DF4C14B3B8EE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158F-D3DA-46EF-946C-5124730CB561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7:12:10Z</dcterms:modified>
  <cp:revision>18</cp:revision>
  <dc:subject/>
  <dc:title>Population Policies in Brazil.</dc:title>
</cp:coreProperties>
</file>