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BE1-25D9-41D3-A8F2-10AF0383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08D-70BD-4C09-97FB-22D80086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50C-9DC6-4931-A9BB-2B10314B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980-4614-40C5-BCD6-8F5975FB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B49-4C8C-4F9F-8FDC-A282864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369-D1FA-42A8-A9A4-6EF9C343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B40-2C2F-4146-8D48-6634703C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0AF-2CEC-44A8-9F6A-20A8762E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2D3-6EE8-46A0-80E5-EB9A72C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A4D-1AD4-4257-BBC6-99C119C7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C20-5623-4C1A-856E-BA26156D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FDE-8BA9-4A23-B5A8-60B8C23E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06AB-70C5-437F-A14C-7B110516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697091.s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ptheaged.org.uk/en-gb/AdviceSupport/HealthAdvice/HealthyAgeing/AllAboutAgeing/as_ageing_160106_3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frica/4890508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15328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ioritise the factors affecting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hungry moans of the infants immediately strike you when you enter the therapeutic feeding centre in Gode town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are 180 children here under the age of six, suffering from diseases related to severe malnutrition. Dr Zelalem, who runs the centre, says: "The most common diseases are respiratory infections, diahorrea, pneumonia and tuberculosis. "Up to five children are dying each day of such diseas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Eyewitness: Ethiopia's fatal famine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Medical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wer children under the age of five are dying, thanks to immunisation programmes and anti-malaria measures, the UN children's agency, Unicef, says.Measles vaccinations, mosquito nets and increased rates of breast-feeding were said to have contributed to the fall. In sub-Saharan Africa, deaths from measles have been reduced by 75% due to increased vaccination coverage. In Vietnam, child mortality dropped by about 40% after 30,000 people were trained as health workers and paid to treat people in their own villages, Unicef sa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from 'Child mortality 'at record low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1532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may also be true that women are physically more active throughout life; women do more of the 'physiotherapy of daily living', such as getting the shopping in and doing the housework, and exercise protects against many age-relat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growing evidence that women are biologically tougher than men. For example, we now know that female hormones protect women from heart disease, at least until the menop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 All about ageing' Help the 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ter/Res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09588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447920"/>
          <a:ext cx="8152920" cy="5257440"/>
        </p:xfrm>
        <a:graphic>
          <a:graphicData uri="http://schemas.openxmlformats.org/drawingml/2006/table">
            <a:tbl>
              <a:tblPr/>
              <a:tblGrid>
                <a:gridCol w="815292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merica's Most Dangerous 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1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data for calendar year 2000. *Deaths per 100,000 employed. Sources: Bureau of Labor Statistics, U.S. Dept. of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33520" y="2209680"/>
          <a:ext cx="8076960" cy="4005360"/>
        </p:xfrm>
        <a:graphic>
          <a:graphicData uri="http://schemas.openxmlformats.org/drawingml/2006/table">
            <a:tbl>
              <a:tblPr/>
              <a:tblGrid>
                <a:gridCol w="4444920"/>
                <a:gridCol w="1814400"/>
                <a:gridCol w="1817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Jo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Number Of Fatal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atality Rate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imber Cut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22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Fisherm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Pil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100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Structural Metal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9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Extractive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3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Roof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30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Construction Work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8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Truck Driv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8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27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All Occup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5,9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Tahoma"/>
                        </a:rPr>
                        <a:t>4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fe in Zimbabwe is shorter than anywhere else in the world, with the average person not expected to live to 40, a new UN report s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respondents say poverty, because of the crumbling economy, and deaths from Aids are responsible for the dec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ken from 'Zimbabweans have 'shortest lives'' BBC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0002" t="29000" r="20625" b="16000"/>
          <a:stretch/>
        </p:blipFill>
        <p:spPr>
          <a:xfrm>
            <a:off x="457200" y="1523880"/>
            <a:ext cx="822960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493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00:05Z</dcterms:created>
  <dc:creator>Phil Randay</dc:creator>
  <dc:description/>
  <dc:language>en-US</dc:language>
  <cp:lastModifiedBy>Phil Randay</cp:lastModifiedBy>
  <dcterms:modified xsi:type="dcterms:W3CDTF">2010-03-23T21:51:50Z</dcterms:modified>
  <cp:revision>8</cp:revision>
  <dc:subject/>
  <dc:title>Factors Affecting Mortality</dc:title>
</cp:coreProperties>
</file>