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206E-955E-4F8E-BE44-951ED5907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97C3-6D9F-4F68-B040-8490A0F63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E1D8-16DF-4172-A523-48EC9E6EB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AF40-BF6A-4AD6-99C1-5F18858A9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F7F7-C9E8-4A68-B70E-BC06A7CEB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62FB-9E62-45CC-AF48-9A9EDD054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26F5-C23A-455B-A6AA-CD9C175E5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AE31-80EC-45F1-9FED-6B9F3D0BE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B127-4BE9-4779-A325-4A7B0E878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0466-B20B-4C4F-985E-D60E0A9C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0ADC-9FDA-4781-BEEA-554B3A4D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3B78-6564-475E-870B-FEF46CB8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94DFB-7629-4F25-B4B6-C762C56D3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news.bbc.co.uk/2/hi/africa/697091.stm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elptheaged.org.uk/en-gb/AdviceSupport/HealthAdvice/HealthyAgeing/AllAboutAgeing/as_ageing_160106_3.htm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news.bbc.co.uk/2/hi/africa/4890508.stm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0670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s Affecting Mort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4800600"/>
            <a:ext cx="8153280" cy="17524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EARNING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identify the factors affecting Mort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rioritise the factors affecting Mort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to F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he hungry moans of the infants immediately strike you when you enter the therapeutic feeding centre in Gode town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re are 180 children here under the age of six, suffering from diseases related to severe malnutrition. Dr Zelalem, who runs the centre, says: "The most common diseases are respiratory infections, diahorrea, pneumonia and tuberculosis. "Up to five children are dying each day of such diseases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aken from 'Eyewitness: Ethiopia's fatal famine'' BBC New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to Medical C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ewer children under the age of five are dying, thanks to immunisation programmes and anti-malaria measures, the UN children's agency, Unicef, says.Measles vaccinations, mosquito nets and increased rates of breast-feeding were said to have contributed to the fall. In sub-Saharan Africa, deaths from measles have been reduced by 75% due to increased vaccination coverage. In Vietnam, child mortality dropped by about 40% after 30,000 people were trained as health workers and paid to treat people in their own villages, Unicef sai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en from 'Child mortality 'at record low'' BBC New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g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209680" y="914400"/>
            <a:ext cx="445788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8153280" cy="52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t may also be true that women are physically more active throughout life; women do more of the 'physiotherapy of daily living', such as getting the shopping in and doing the housework, and exercise protects against many age-related condi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re is growing evidence that women are biologically tougher than men. For example, we now know that female hormones protect women from heart disease, at least until the menopau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aken from ' All about ageing' Help the A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ter/Res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600200" y="1523880"/>
            <a:ext cx="6095880" cy="507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ccup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447920"/>
          <a:ext cx="8152920" cy="5257440"/>
        </p:xfrm>
        <a:graphic>
          <a:graphicData uri="http://schemas.openxmlformats.org/drawingml/2006/table">
            <a:tbl>
              <a:tblPr/>
              <a:tblGrid>
                <a:gridCol w="8152920"/>
              </a:tblGrid>
              <a:tr h="633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America's Most Dangerous Job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415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465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All data for calendar year 2000. *Deaths per 100,000 employed. Sources: Bureau of Labor Statistics, U.S. Dept. of Lab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533520" y="2209680"/>
          <a:ext cx="8076960" cy="4005360"/>
        </p:xfrm>
        <a:graphic>
          <a:graphicData uri="http://schemas.openxmlformats.org/drawingml/2006/table">
            <a:tbl>
              <a:tblPr/>
              <a:tblGrid>
                <a:gridCol w="4444920"/>
                <a:gridCol w="1814400"/>
                <a:gridCol w="181764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Jo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Number Of Fataliti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Fatality Rate*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37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Timber Cutte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10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122.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</a:tr>
              <a:tr h="374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Fisherme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5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108.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37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Pilot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23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100.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</a:tr>
              <a:tr h="374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Structural Metal Worke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4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59.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374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Extractive Occupatio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6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53.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</a:tr>
              <a:tr h="37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Roofe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6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30.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374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Construction Worke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28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28.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</a:tr>
              <a:tr h="37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Truck Drive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85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27.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371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All Occupatio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5,91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4.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c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ife in Zimbabwe is shorter than anywhere else in the world, with the average person not expected to live to 40, a new UN report say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rrespondents say poverty, because of the crumbling economy, and deaths from Aids are responsible for the decli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aken from 'Zimbabweans have 'shortest lives'' BBC New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ter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rcRect l="30002" t="29000" r="20625" b="16000"/>
          <a:stretch/>
        </p:blipFill>
        <p:spPr>
          <a:xfrm>
            <a:off x="457200" y="1523880"/>
            <a:ext cx="8229600" cy="498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to F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57200" y="1295280"/>
            <a:ext cx="8229600" cy="4937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4T00:00:05Z</dcterms:created>
  <dc:creator>Phil Randay</dc:creator>
  <dc:description/>
  <dc:language>en-US</dc:language>
  <cp:lastModifiedBy>Phil Randay</cp:lastModifiedBy>
  <dcterms:modified xsi:type="dcterms:W3CDTF">2010-03-23T21:51:50Z</dcterms:modified>
  <cp:revision>8</cp:revision>
  <dc:subject/>
  <dc:title>Factors Affecting Mortality</dc:title>
</cp:coreProperties>
</file>