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457-7B1F-4389-8665-F2B64A63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8BE-2FEA-419E-818E-E879F53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DCF-28B9-41F1-A1EF-4096D26A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52F-E456-44A6-9C9F-45AF58F6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7C5-8F96-4BE7-AE3C-C3BA7D8F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FCF-EF4E-40E6-BE1A-092CD4CD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CF4-2B8C-4F74-A9D0-DACCFB0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569-7DA2-4D05-8DB4-632A97C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D6E-DCBB-4D59-AD7A-B314AD4D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3B5-EE09-41D8-93ED-508591D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66C-6006-4B1F-95D6-556ECB0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61E-4CB5-49D7-8BCA-2B4326C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A8B-C211-4B50-96AD-9BB4DC03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697091.s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theaged.org.uk/en-gb/AdviceSupport/HealthAdvice/HealthyAgeing/AllAboutAgeing/as_ageing_160106_3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4890508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oritise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ungry moans of the infants immediately strike you when you enter the therapeutic feeding centre in Gode tow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are 180 children here under the age of six, suffering from diseases related to severe malnutrition. Dr Zelalem, who runs the centre, says: "The most common diseases are respiratory infections, diahorrea, pneumonia and tuberculosis. "Up to five children are dying each day of such diseas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Eyewitness: Ethiopia's fatal famine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Medical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wer children under the age of five are dying, thanks to immunisation programmes and anti-malaria measures, the UN children's agency, Unicef, says.Measles vaccinations, mosquito nets and increased rates of breast-feeding were said to have contributed to the fall. In sub-Saharan Africa, deaths from measles have been reduced by 75% due to increased vaccination coverage. In Vietnam, child mortality dropped by about 40% after 30,000 people were trained as health workers and paid to treat people in their own villages, Unicef sa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'Child mortality 'at record low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may also be true that women are physically more active throughout life; women do more of the 'physiotherapy of daily living', such as getting the shopping in and doing the housework, and exercise protects against many age-relat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growing evidence that women are biologically tougher than men. For example, we now know that female hormones protect women from heart disease, at least until the meno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 All about ageing' Help the 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ter/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588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47920"/>
          <a:ext cx="8152920" cy="525744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merica's Most Dangerous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data for calendar year 2000. *Deaths per 100,000 employed. Sources: Bureau of Labor Statistics, U.S. Dept. of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2209680"/>
          <a:ext cx="8076960" cy="4005360"/>
        </p:xfrm>
        <a:graphic>
          <a:graphicData uri="http://schemas.openxmlformats.org/drawingml/2006/table">
            <a:tbl>
              <a:tblPr/>
              <a:tblGrid>
                <a:gridCol w="4444920"/>
                <a:gridCol w="181440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Jo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Number Of Fatal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atality Rate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imber Cut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2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isher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Pil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Structural Metal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9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Extractive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Roof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30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Construction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ruck Dr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8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,9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in Zimbabwe is shorter than anywhere else in the world, with the average person not expected to live to 40, a new UN report s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spondents say poverty, because of the crumbling economy, and deaths from Aids are responsible for the dec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Zimbabweans have 'shortest lives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0002" t="29000" r="20625" b="16000"/>
          <a:stretch/>
        </p:blipFill>
        <p:spPr>
          <a:xfrm>
            <a:off x="457200" y="1523880"/>
            <a:ext cx="8229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93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00:05Z</dcterms:created>
  <dc:creator>Phil Randay</dc:creator>
  <dc:description/>
  <dc:language>en-US</dc:language>
  <cp:lastModifiedBy>Phil Randay</cp:lastModifiedBy>
  <dcterms:modified xsi:type="dcterms:W3CDTF">2010-03-23T21:51:50Z</dcterms:modified>
  <cp:revision>8</cp:revision>
  <dc:subject/>
  <dc:title>Factors Affecting Mortality</dc:title>
</cp:coreProperties>
</file>