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EFE-4A80-408B-85F3-84D76F89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3F6-2DB6-431D-8386-2B78A63B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971-1CAD-462F-AFFC-3660BE7A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4E3E-E8E0-4FE1-A322-C474B4C9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1F7-DCDB-4AE0-BFC0-1929E727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20D-B58F-4C7D-9D3D-88BFC50A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1A9-3C5F-430C-9567-EED93A63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4CE-3051-42AA-8775-F703C1DF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A1C-B5E7-4F5E-9F83-007D55EE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23E-66A0-439D-A6F1-9770AB8D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8C4-F115-48A4-B02F-B6FAB797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06D8-E950-43E9-ADD0-91445D20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BAB3-3E4F-43AA-AFA7-347DEE59D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frica/697091.s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lptheaged.org.uk/en-gb/AdviceSupport/HealthAdvice/HealthyAgeing/AllAboutAgeing/as_ageing_160106_3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frica/4890508.s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Affect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153280" cy="1752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the factors affecting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ioritise the factors affecting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hungry moans of the infants immediately strike you when you enter the therapeutic feeding centre in Gode town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are 180 children here under the age of six, suffering from diseases related to severe malnutrition. Dr Zelalem, who runs the centre, says: "The most common diseases are respiratory infections, diahorrea, pneumonia and tuberculosis. "Up to five children are dying each day of such disease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Eyewitness: Ethiopia's fatal famine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Medical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wer children under the age of five are dying, thanks to immunisation programmes and anti-malaria measures, the UN children's agency, Unicef, says.Measles vaccinations, mosquito nets and increased rates of breast-feeding were said to have contributed to the fall. In sub-Saharan Africa, deaths from measles have been reduced by 75% due to increased vaccination coverage. In Vietnam, child mortality dropped by about 40% after 30,000 people were trained as health workers and paid to treat people in their own villages, Unicef sa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n from 'Child mortality 'at record low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09680" y="91440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1532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may also be true that women are physically more active throughout life; women do more of the 'physiotherapy of daily living', such as getting the shopping in and doing the housework, and exercise protects against many age-related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is growing evidence that women are biologically tougher than men. For example, we now know that female hormones protect women from heart disease, at least until the menop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 All about ageing' Help the 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ter/Res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09588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447920"/>
          <a:ext cx="8152920" cy="5257440"/>
        </p:xfrm>
        <a:graphic>
          <a:graphicData uri="http://schemas.openxmlformats.org/drawingml/2006/table">
            <a:tbl>
              <a:tblPr/>
              <a:tblGrid>
                <a:gridCol w="815292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merica's Most Dangerous Jo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1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ll data for calendar year 2000. *Deaths per 100,000 employed. Sources: Bureau of Labor Statistics, U.S. Dept. of Lab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33520" y="2209680"/>
          <a:ext cx="8076960" cy="4005360"/>
        </p:xfrm>
        <a:graphic>
          <a:graphicData uri="http://schemas.openxmlformats.org/drawingml/2006/table">
            <a:tbl>
              <a:tblPr/>
              <a:tblGrid>
                <a:gridCol w="4444920"/>
                <a:gridCol w="1814400"/>
                <a:gridCol w="18176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Jo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Number Of Fatali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Fatality Rate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Timber Cutt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22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Fisherm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8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Pilo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0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Structural Metal Work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9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Extractive Occup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6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3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Roof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30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Construction Work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8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8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Truck Driv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8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7.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ll Occup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,9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4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fe in Zimbabwe is shorter than anywhere else in the world, with the average person not expected to live to 40, a new UN report s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rrespondents say poverty, because of the crumbling economy, and deaths from Aids are responsible for the dec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Zimbabweans have 'shortest lives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30002" t="29000" r="20625" b="16000"/>
          <a:stretch/>
        </p:blipFill>
        <p:spPr>
          <a:xfrm>
            <a:off x="457200" y="1523880"/>
            <a:ext cx="822960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229600" cy="493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00:05Z</dcterms:created>
  <dc:creator>Phil Randay</dc:creator>
  <dc:description/>
  <dc:language>en-US</dc:language>
  <cp:lastModifiedBy>Phil Randay</cp:lastModifiedBy>
  <dcterms:modified xsi:type="dcterms:W3CDTF">2010-03-23T21:51:50Z</dcterms:modified>
  <cp:revision>8</cp:revision>
  <dc:subject/>
  <dc:title>Factors Affecting Mortality</dc:title>
</cp:coreProperties>
</file>