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39F-B3C5-4658-BAAA-3B007768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A76-ED40-4F17-8AF5-D27069D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35E-FA35-4C7A-A9EE-DA58F628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676-1001-4148-A789-D70B01A1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B5D-9918-435A-A475-0AFC7B14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45C-2D7F-4E70-86DD-7F888C8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B15-9EE7-4525-BC1B-70A9792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10C-51C1-4ED3-A683-C462BD6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6ED-995C-4F73-9E91-AE372C1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C3D-8940-4F93-B412-5D38D12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EB8-3E7B-4623-BC99-A877DCB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580-3A71-44BD-B0A5-45C60B5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9AA7-AF66-413A-A6C8-EFE36129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lunarbin/worldpop" TargetMode="External"/><Relationship Id="rId2" Type="http://schemas.openxmlformats.org/officeDocument/2006/relationships/hyperlink" Target="http://math.berkeley.edu/~galen/popclk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4571640"/>
            <a:ext cx="8686800" cy="2057400"/>
          </a:xfrm>
          <a:prstGeom prst="rect">
            <a:avLst/>
          </a:prstGeom>
          <a:solidFill>
            <a:srgbClr val="ffff99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be able to explain the current trends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8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opulation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600" y="1980720"/>
            <a:ext cx="90648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Population Change = CBR – C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ives us how many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ld Population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biblio.org/lunarbin/world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.berkeley.edu/~galen/popcl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04920" y="152280"/>
            <a:ext cx="830556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634D95"/>
          <p:cNvPicPr/>
          <p:nvPr/>
        </p:nvPicPr>
        <p:blipFill>
          <a:blip r:embed="rId1">
            <a:lum bright="-6000"/>
          </a:blip>
          <a:srcRect l="8623" t="16065" r="3202" b="42938"/>
          <a:stretch/>
        </p:blipFill>
        <p:spPr>
          <a:xfrm>
            <a:off x="53352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33520" y="1447920"/>
            <a:ext cx="4419360" cy="2361960"/>
          </a:xfrm>
          <a:prstGeom prst="rect">
            <a:avLst/>
          </a:prstGeom>
          <a:solidFill>
            <a:srgbClr val="c8d5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28600" y="228600"/>
            <a:ext cx="8610480" cy="914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Population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geographyalltheway.com/igcse_geography/population_settlement/settlement/imagesetc/urban_rural.png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rowth vs.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2400" y="1236600"/>
            <a:ext cx="5670360" cy="284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693960" y="4133880"/>
            <a:ext cx="54500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320400"/>
            <a:ext cx="81504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Attack – Population Growth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96800" y="1646280"/>
            <a:ext cx="81504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5 -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veloped Regions – 0.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regions 1.3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developed regions 2.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Saharan Africa – 2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Europe – 0.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3880" y="320400"/>
            <a:ext cx="84996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 - The Slowing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458720"/>
            <a:ext cx="8283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growth is currently 1.2% way below the rates of 2.2% seen 40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078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largely due to declines in fertility – which we come on to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5120" y="276120"/>
            <a:ext cx="8356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2:52:51Z</dcterms:created>
  <dc:creator>Phil Randay</dc:creator>
  <dc:description/>
  <dc:language>en-US</dc:language>
  <cp:lastModifiedBy>Phil Randay</cp:lastModifiedBy>
  <dcterms:modified xsi:type="dcterms:W3CDTF">2010-08-26T20:05:39Z</dcterms:modified>
  <cp:revision>23</cp:revision>
  <dc:subject/>
  <dc:title>Global Population Trends</dc:title>
</cp:coreProperties>
</file>