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96A-1705-47BF-9831-D8369B0A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400-823C-4042-92A2-0099DBB7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7D4-7B40-4EE7-B620-C71C3703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F73-12CE-4D67-BB4E-4EF30A2D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1F6-B16B-4A3C-A07B-1C09DDC5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503-2DC5-4575-8233-7BA7F19A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7CA-38E6-490A-AE9F-1FB4E2D5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B27-F033-4935-BA3F-08C75F6F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B53-7840-4655-8197-F73513D4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AAF-CBF9-4916-9C7B-93491233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164-649A-4462-B0FA-7BA72EB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BAC-9B81-4A56-BD2C-566BB33C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FB62-F8DF-4CA1-B0E5-19FA6812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lunarbin/worldpop" TargetMode="External"/><Relationship Id="rId2" Type="http://schemas.openxmlformats.org/officeDocument/2006/relationships/hyperlink" Target="http://math.berkeley.edu/~galen/popclk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fff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4571640"/>
            <a:ext cx="8686800" cy="2057400"/>
          </a:xfrm>
          <a:prstGeom prst="rect">
            <a:avLst/>
          </a:prstGeom>
          <a:solidFill>
            <a:srgbClr val="ffff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o be able to explain the current trends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84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opulation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00" y="1980720"/>
            <a:ext cx="90648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Population Change = CBR – C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gives us how many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Population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biblio.org/lunarbin/world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.berkeley.edu/~galen/popclk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04920" y="152280"/>
            <a:ext cx="830556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634D95"/>
          <p:cNvPicPr/>
          <p:nvPr/>
        </p:nvPicPr>
        <p:blipFill>
          <a:blip r:embed="rId1">
            <a:lum bright="-6000"/>
          </a:blip>
          <a:srcRect l="8623" t="16065" r="3202" b="42938"/>
          <a:stretch/>
        </p:blipFill>
        <p:spPr>
          <a:xfrm>
            <a:off x="533520" y="14479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33520" y="1447920"/>
            <a:ext cx="4419360" cy="2361960"/>
          </a:xfrm>
          <a:prstGeom prst="rect">
            <a:avLst/>
          </a:prstGeom>
          <a:solidFill>
            <a:srgbClr val="c8d5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28600" y="228600"/>
            <a:ext cx="8610480" cy="91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geographyalltheway.com/igcse_geography/population_settlement/settlement/imagesetc/urban_rural.png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rowth vs.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2400" y="1236600"/>
            <a:ext cx="5670360" cy="284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693960" y="4133880"/>
            <a:ext cx="54500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320400"/>
            <a:ext cx="81504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Attack – Population Growth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96800" y="1646280"/>
            <a:ext cx="81504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5 -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veloped Regions – 0.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regions 1.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developed regions 2.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Saharan Africa – 2.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 – 0.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3880" y="320400"/>
            <a:ext cx="8499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 - The Slowing of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7960" y="1458720"/>
            <a:ext cx="8283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growth is currently 1.2% way below the rates of 2.2% seen 40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largely due to declines in fertility – which we come on to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5120" y="276120"/>
            <a:ext cx="8356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2:52:51Z</dcterms:created>
  <dc:creator>Phil Randay</dc:creator>
  <dc:description/>
  <dc:language>en-US</dc:language>
  <cp:lastModifiedBy>Phil Randay</cp:lastModifiedBy>
  <dcterms:modified xsi:type="dcterms:W3CDTF">2010-08-26T20:05:39Z</dcterms:modified>
  <cp:revision>23</cp:revision>
  <dc:subject/>
  <dc:title>Global Population Trends</dc:title>
</cp:coreProperties>
</file>