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677-874C-4949-9166-CBEF4C9F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8F2-4334-4E9A-A269-3CA117B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DC0-7D6D-4997-A784-B3E940AE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F36-8F39-4B7C-9EC5-BCC5ABCD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160-3CB3-4474-8361-918311E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B32-19DD-4AF1-83EA-5AAFBF2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981-2B2A-49B2-B308-96D97ECF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B21-F730-486C-99FF-5F8F0D6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735-92CC-4FD2-9EAE-096781D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E17-34B4-42C9-9BAA-C42EED7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E7B-FEA4-47C8-B74B-93E5C8C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44D-9CA3-4770-A81F-116F793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E49B-8EDD-46CB-9E48-F55982CB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lunarbin/worldpop" TargetMode="External"/><Relationship Id="rId2" Type="http://schemas.openxmlformats.org/officeDocument/2006/relationships/hyperlink" Target="http://math.berkeley.edu/~galen/popclk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be able to explain the current trends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8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pulation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00" y="1980720"/>
            <a:ext cx="9064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Population Change = CBR –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ives us how many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Population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biblio.org/lunarbin/world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.berkeley.edu/~galen/popcl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152280"/>
            <a:ext cx="830556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634D95"/>
          <p:cNvPicPr/>
          <p:nvPr/>
        </p:nvPicPr>
        <p:blipFill>
          <a:blip r:embed="rId1">
            <a:lum bright="-6000"/>
          </a:blip>
          <a:srcRect l="8623" t="16065" r="3202" b="42938"/>
          <a:stretch/>
        </p:blipFill>
        <p:spPr>
          <a:xfrm>
            <a:off x="53352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33520" y="1447920"/>
            <a:ext cx="4419360" cy="2361960"/>
          </a:xfrm>
          <a:prstGeom prst="rect">
            <a:avLst/>
          </a:prstGeom>
          <a:solidFill>
            <a:srgbClr val="c8d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28600" y="228600"/>
            <a:ext cx="861048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geographyalltheway.com/igcse_geography/population_settlement/settlement/imagesetc/urban_rural.png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rowth vs.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2400" y="1236600"/>
            <a:ext cx="5670360" cy="284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693960" y="4133880"/>
            <a:ext cx="54500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320400"/>
            <a:ext cx="8150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Attack – Population Growth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96800" y="1646280"/>
            <a:ext cx="81504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5 -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veloped Regions – 0.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regions 1.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developed regions 2.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Saharan Africa – 2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 – 0.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3880" y="320400"/>
            <a:ext cx="8499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 - The Slowing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458720"/>
            <a:ext cx="828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growth is currently 1.2% way below the rates of 2.2% seen 4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largely due to declines in fertility – which we come on to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5120" y="276120"/>
            <a:ext cx="8356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2:52:51Z</dcterms:created>
  <dc:creator>Phil Randay</dc:creator>
  <dc:description/>
  <dc:language>en-US</dc:language>
  <cp:lastModifiedBy>Phil Randay</cp:lastModifiedBy>
  <dcterms:modified xsi:type="dcterms:W3CDTF">2010-08-26T20:05:39Z</dcterms:modified>
  <cp:revision>23</cp:revision>
  <dc:subject/>
  <dc:title>Global Population Trends</dc:title>
</cp:coreProperties>
</file>