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D4AC-AA7E-47D0-96CF-3EE3FC1B6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BC94-6738-46F4-9EB0-217CDE9B1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4A1D-11FA-45F4-B804-D54784B5E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7281-C6E4-4193-B0B6-A6F9FD62C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D8AE-9CD6-4256-A6C9-97BD5C754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9E1D-0D94-4749-9DE3-AE1749C18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0F50-F15D-4718-A3FA-4600FB452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21CF-1231-4480-82CD-15F6AE926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B313-4F7C-40A4-8236-C0D7945D9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16E6-1810-4CB1-B7A0-97EB49CDA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EFD4-7859-4812-B447-08928AE0F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2711-2B3A-4C92-8A0B-EF5245626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FBFEA-49E6-4F1C-952F-0C9B98E2E0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ibiblio.org/lunarbin/worldpop" TargetMode="External"/><Relationship Id="rId2" Type="http://schemas.openxmlformats.org/officeDocument/2006/relationships/hyperlink" Target="http://math.berkeley.edu/~galen/popclk.html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solidFill>
            <a:srgbClr val="ffff99">
              <a:alpha val="60000"/>
            </a:srgbClr>
          </a:solidFill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lobal Population Tr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28600" y="4571640"/>
            <a:ext cx="8686800" cy="2057400"/>
          </a:xfrm>
          <a:prstGeom prst="rect">
            <a:avLst/>
          </a:prstGeom>
          <a:solidFill>
            <a:srgbClr val="ffff99">
              <a:alpha val="70000"/>
            </a:srgbClr>
          </a:solidFill>
          <a:ln w="2844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EARNING OBJ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To be able to explain the current trends in pop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380880" y="228600"/>
            <a:ext cx="822960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lobal Population Tr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"/>
          <p:cNvPicPr/>
          <p:nvPr/>
        </p:nvPicPr>
        <p:blipFill>
          <a:blip r:embed="rId1"/>
          <a:stretch/>
        </p:blipFill>
        <p:spPr>
          <a:xfrm>
            <a:off x="2057400" y="1600200"/>
            <a:ext cx="48848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Population Formu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9600" y="1980720"/>
            <a:ext cx="9064800" cy="41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tural Population Change = CBR – CD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ich gives us how many peop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World Population Clo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ibiblio.org/lunarbin/worldp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math.berkeley.edu/~galen/popclk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8229600" cy="53946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5"/>
          <p:cNvSpPr/>
          <p:nvPr/>
        </p:nvSpPr>
        <p:spPr>
          <a:xfrm>
            <a:off x="304920" y="152280"/>
            <a:ext cx="830556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lobal Population Tr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lobal Population Tr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3634D95"/>
          <p:cNvPicPr/>
          <p:nvPr/>
        </p:nvPicPr>
        <p:blipFill>
          <a:blip r:embed="rId1">
            <a:lum bright="-6000"/>
          </a:blip>
          <a:srcRect l="8623" t="16065" r="3202" b="42938"/>
          <a:stretch/>
        </p:blipFill>
        <p:spPr>
          <a:xfrm>
            <a:off x="533520" y="1447920"/>
            <a:ext cx="8610480" cy="510516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6"/>
          <p:cNvSpPr/>
          <p:nvPr/>
        </p:nvSpPr>
        <p:spPr>
          <a:xfrm>
            <a:off x="533520" y="1447920"/>
            <a:ext cx="4419360" cy="2361960"/>
          </a:xfrm>
          <a:prstGeom prst="rect">
            <a:avLst/>
          </a:prstGeom>
          <a:solidFill>
            <a:srgbClr val="c8d5d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4"/>
          <p:cNvSpPr/>
          <p:nvPr/>
        </p:nvSpPr>
        <p:spPr>
          <a:xfrm>
            <a:off x="228600" y="228600"/>
            <a:ext cx="8610480" cy="91440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lobal Population Tr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http://geographyalltheway.com/igcse_geography/population_settlement/settlement/imagesetc/urban_rural.png"/>
          <p:cNvPicPr/>
          <p:nvPr/>
        </p:nvPicPr>
        <p:blipFill>
          <a:blip r:embed="rId1"/>
          <a:stretch/>
        </p:blipFill>
        <p:spPr>
          <a:xfrm>
            <a:off x="228600" y="1219320"/>
            <a:ext cx="8610480" cy="54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pulation growth vs. dec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122400" y="1236600"/>
            <a:ext cx="5670360" cy="28418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"/>
          <p:cNvPicPr/>
          <p:nvPr/>
        </p:nvPicPr>
        <p:blipFill>
          <a:blip r:embed="rId2"/>
          <a:stretch/>
        </p:blipFill>
        <p:spPr>
          <a:xfrm>
            <a:off x="3693960" y="4133880"/>
            <a:ext cx="5450040" cy="27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96800" y="320400"/>
            <a:ext cx="815040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ata Attack – Population Growth Ra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96800" y="1646280"/>
            <a:ext cx="8150400" cy="44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2005 - 1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0780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Developed Regions – 0.34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0780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s developed regions 1.37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0780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st developed regions 2.3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0780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-Saharan Africa – 2.44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0780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stern Europe – 0.24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53880" y="320400"/>
            <a:ext cx="849960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 Feature - The Slowing of Grow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507960" y="1458720"/>
            <a:ext cx="8283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0780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nual growth is currently 1.2% way below the rates of 2.2% seen 40 years ag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0780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s is largely due to declines in fertility – which we come on to nex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465120" y="276120"/>
            <a:ext cx="8356680" cy="643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6T02:52:51Z</dcterms:created>
  <dc:creator>Phil Randay</dc:creator>
  <dc:description/>
  <dc:language>en-US</dc:language>
  <cp:lastModifiedBy>Phil Randay</cp:lastModifiedBy>
  <dcterms:modified xsi:type="dcterms:W3CDTF">2010-08-26T20:05:39Z</dcterms:modified>
  <cp:revision>23</cp:revision>
  <dc:subject/>
  <dc:title>Global Population Trends</dc:title>
</cp:coreProperties>
</file>