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55B5-D3B7-46C1-A1EA-54FAFE1D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0707-AB21-43D7-AE34-0E8CF3B8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2432-007C-417D-8620-5E446148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EB56-C7DB-4DB6-9EF8-3BC4B1EAB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228B-831D-49AA-904B-E7EE10BA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DB34-B5A3-4992-A883-790C5A1A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AD09-C6C7-429E-B046-83B1BCA6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1D08-75F9-4AD0-BBDA-A779416B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8E83-F60B-45DC-A669-1861327F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D054-9B43-46BD-8333-AA17FEDC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87D8-62A9-4928-9BFF-8825A0FA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713C-673F-4244-916B-32C5ABCE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5CED-33D0-45F2-95CD-ADCE14B49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biblio.org/lunarbin/worldpop" TargetMode="External"/><Relationship Id="rId2" Type="http://schemas.openxmlformats.org/officeDocument/2006/relationships/hyperlink" Target="http://math.berkeley.edu/~galen/popclk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solidFill>
            <a:srgbClr val="ffff99">
              <a:alpha val="60000"/>
            </a:srgbClr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lobal Population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600" y="4571640"/>
            <a:ext cx="8686800" cy="2057400"/>
          </a:xfrm>
          <a:prstGeom prst="rect">
            <a:avLst/>
          </a:prstGeom>
          <a:solidFill>
            <a:srgbClr val="ffff99">
              <a:alpha val="70000"/>
            </a:srgbClr>
          </a:solidFill>
          <a:ln w="2844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ARNING 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o be able to explain the current trends in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lobal Population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884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Population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9600" y="1980720"/>
            <a:ext cx="90648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ural Population Change = CBR – C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gives us how many peo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orld Population C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biblio.org/lunarbin/world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ath.berkeley.edu/~galen/popclk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229600" cy="53946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304920" y="152280"/>
            <a:ext cx="830556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lobal Population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lobal Population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3634D95"/>
          <p:cNvPicPr/>
          <p:nvPr/>
        </p:nvPicPr>
        <p:blipFill>
          <a:blip r:embed="rId1">
            <a:lum bright="-6000"/>
          </a:blip>
          <a:srcRect l="8623" t="16065" r="3202" b="42938"/>
          <a:stretch/>
        </p:blipFill>
        <p:spPr>
          <a:xfrm>
            <a:off x="533520" y="1447920"/>
            <a:ext cx="8610480" cy="51051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533520" y="1447920"/>
            <a:ext cx="4419360" cy="2361960"/>
          </a:xfrm>
          <a:prstGeom prst="rect">
            <a:avLst/>
          </a:prstGeom>
          <a:solidFill>
            <a:srgbClr val="c8d5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228600" y="228600"/>
            <a:ext cx="8610480" cy="9144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lobal Population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http://geographyalltheway.com/igcse_geography/population_settlement/settlement/imagesetc/urban_rural.png"/>
          <p:cNvPicPr/>
          <p:nvPr/>
        </p:nvPicPr>
        <p:blipFill>
          <a:blip r:embed="rId1"/>
          <a:stretch/>
        </p:blipFill>
        <p:spPr>
          <a:xfrm>
            <a:off x="228600" y="1219320"/>
            <a:ext cx="8610480" cy="54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growth vs. dec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22400" y="1236600"/>
            <a:ext cx="5670360" cy="2841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3693960" y="4133880"/>
            <a:ext cx="545004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6800" y="320400"/>
            <a:ext cx="815040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Attack – Population Growth 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96800" y="1646280"/>
            <a:ext cx="81504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005 - 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078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eveloped Regions – 0.3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078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developed regions 1.3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078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st developed regions 2.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078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-Saharan Africa – 2.4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078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ern Europe – 0.2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3880" y="320400"/>
            <a:ext cx="849960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Feature - The Slowing of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7960" y="1458720"/>
            <a:ext cx="8283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078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nual growth is currently 1.2% way below the rates of 2.2% seen 40 years a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078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largely due to declines in fertility – which we come on to n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465120" y="276120"/>
            <a:ext cx="835668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2:52:51Z</dcterms:created>
  <dc:creator>Phil Randay</dc:creator>
  <dc:description/>
  <dc:language>en-US</dc:language>
  <cp:lastModifiedBy>Phil Randay</cp:lastModifiedBy>
  <dcterms:modified xsi:type="dcterms:W3CDTF">2010-08-26T20:05:39Z</dcterms:modified>
  <cp:revision>23</cp:revision>
  <dc:subject/>
  <dc:title>Global Population Trends</dc:title>
</cp:coreProperties>
</file>