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8C6-6018-409B-B49B-7F087C7A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76D-1E67-4521-83A4-1C1BA748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5D1-8B5C-4824-8DF7-81E88138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5A1-C58C-4374-AAF6-A92D87F7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A03-4D14-4A41-8089-D860F2CE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8EC-59F6-4BD8-8FFB-AAE0244E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117-A72B-46BC-BFEC-F7673950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F72-D369-4D07-9A93-279B914A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355-06E0-4057-BFCE-2FC04511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325-A4B7-4F02-A5D5-00518EF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FB2-39E1-4DFA-8D08-BB00F61F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E3E-BC3C-49BD-B4F6-FE3423A4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E20D-3669-410A-94F3-DB048FB25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biblio.org/lunarbin/worldpop" TargetMode="External"/><Relationship Id="rId2" Type="http://schemas.openxmlformats.org/officeDocument/2006/relationships/hyperlink" Target="http://math.berkeley.edu/~galen/popclk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solidFill>
            <a:srgbClr val="ffff99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4571640"/>
            <a:ext cx="8686800" cy="2057400"/>
          </a:xfrm>
          <a:prstGeom prst="rect">
            <a:avLst/>
          </a:prstGeom>
          <a:solidFill>
            <a:srgbClr val="ffff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o be able to explain the current trends i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84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opulation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600" y="1980720"/>
            <a:ext cx="90648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Population Change = CBR – C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gives us how many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Population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biblio.org/lunarbin/world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.berkeley.edu/~galen/popclk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5394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04920" y="152280"/>
            <a:ext cx="830556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634D95"/>
          <p:cNvPicPr/>
          <p:nvPr/>
        </p:nvPicPr>
        <p:blipFill>
          <a:blip r:embed="rId1">
            <a:lum bright="-6000"/>
          </a:blip>
          <a:srcRect l="8623" t="16065" r="3202" b="42938"/>
          <a:stretch/>
        </p:blipFill>
        <p:spPr>
          <a:xfrm>
            <a:off x="533520" y="1447920"/>
            <a:ext cx="8610480" cy="5105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33520" y="1447920"/>
            <a:ext cx="4419360" cy="2361960"/>
          </a:xfrm>
          <a:prstGeom prst="rect">
            <a:avLst/>
          </a:prstGeom>
          <a:solidFill>
            <a:srgbClr val="c8d5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28600" y="228600"/>
            <a:ext cx="8610480" cy="914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geographyalltheway.com/igcse_geography/population_settlement/settlement/imagesetc/urban_rural.png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rowth vs.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2400" y="1236600"/>
            <a:ext cx="5670360" cy="284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693960" y="4133880"/>
            <a:ext cx="54500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6800" y="320400"/>
            <a:ext cx="81504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Attack – Population Growth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96800" y="1646280"/>
            <a:ext cx="81504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05 -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veloped Regions – 0.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developed regions 1.3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developed regions 2.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Saharan Africa – 2.4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Europe – 0.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3880" y="320400"/>
            <a:ext cx="84996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 - The Slowing of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7960" y="1458720"/>
            <a:ext cx="8283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ual growth is currently 1.2% way below the rates of 2.2% seen 40 yea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largely due to declines in fertility – which we come on to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5120" y="276120"/>
            <a:ext cx="8356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2:52:51Z</dcterms:created>
  <dc:creator>Phil Randay</dc:creator>
  <dc:description/>
  <dc:language>en-US</dc:language>
  <cp:lastModifiedBy>Phil Randay</cp:lastModifiedBy>
  <dcterms:modified xsi:type="dcterms:W3CDTF">2010-08-26T20:05:39Z</dcterms:modified>
  <cp:revision>23</cp:revision>
  <dc:subject/>
  <dc:title>Global Population Trends</dc:title>
</cp:coreProperties>
</file>