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959-1ECE-449B-9D71-8DFDC54D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60D-2634-4A0F-A91B-3D73A651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02D8-115E-4424-A058-5EC651CB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626-CB4A-4B1B-A529-5DF5483A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A77-EFFF-471F-A09C-A50C7475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4DA4-74E5-4B78-9544-21A08843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27F-72F7-4660-B329-15BA907F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0F3-490E-46C8-A3CA-0CDE1238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6F5-9CA4-440C-A5D6-F6C17D18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859-F191-4B75-951E-8D087628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679-BCF0-4B7A-8E13-2C7AB9F0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CBC9-65B8-4EB9-976C-9FBF4355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085B-DAEC-4333-B58A-CF202AB1F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6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Head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804400">
            <a:off x="379800" y="175104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generation Minorities will be the maj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52600">
            <a:off x="5714640" y="1752480"/>
            <a:ext cx="281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ween now and 2050 Population growth will be generated exclusively in Developing Count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732400">
            <a:off x="304920" y="40381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a will outgrow Ch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261200">
            <a:off x="4723560" y="44193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K Population may double by 20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they any good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Forecast and actual number of births graph"/>
          <p:cNvPicPr/>
          <p:nvPr/>
        </p:nvPicPr>
        <p:blipFill>
          <a:blip r:embed="rId2"/>
          <a:stretch/>
        </p:blipFill>
        <p:spPr>
          <a:xfrm>
            <a:off x="457200" y="1219320"/>
            <a:ext cx="822960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4876920"/>
            <a:ext cx="8534160" cy="1752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population projections are cal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high, medium and low population projections and their impacts on population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ulation Projections - 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s Projections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Institute for Applied System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11962"/>
          <a:stretch/>
        </p:blipFill>
        <p:spPr>
          <a:xfrm>
            <a:off x="457200" y="1447920"/>
            <a:ext cx="8153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lose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5486" r="0" b="3157"/>
          <a:stretch/>
        </p:blipFill>
        <p:spPr>
          <a:xfrm>
            <a:off x="457200" y="12952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se affect the Population Distrib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they Calcula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8229600" cy="3200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tilit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alit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ion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um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1:54:52Z</dcterms:created>
  <dc:creator>Phil Randay</dc:creator>
  <dc:description/>
  <dc:language>en-US</dc:language>
  <cp:lastModifiedBy>Phil Randay</cp:lastModifiedBy>
  <dcterms:modified xsi:type="dcterms:W3CDTF">2009-09-11T04:06:49Z</dcterms:modified>
  <cp:revision>8</cp:revision>
  <dc:subject/>
  <dc:title>Selected Headlines</dc:title>
</cp:coreProperties>
</file>