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FAA-3E84-4BE1-A613-01A505F7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3E2-D482-47FC-BE42-77551774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60D-2395-417A-9F42-EFB3BBD3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62C-41EC-44E9-BC9D-F17F8A01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8B48-E688-49F5-A628-FB56BC31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3EB6-C4C9-4DA2-8C23-6B814146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8FAE-3349-41B3-8DB8-0AFDF381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949A-21C3-48E2-B8D5-5F40CEA2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B192-EE8A-4F84-B78D-1AAAC009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342-3B56-4BBB-9AD6-62F6F0F0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3FB4-E0B5-4CFB-BE00-FB043FD2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1EE8-084E-4ABF-80DF-C2E3084C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23B9-1F3E-4F35-A022-6A2FD14A0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6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Head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804400">
            <a:off x="379800" y="175104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generation Minorities will be the maj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52600">
            <a:off x="5714640" y="1752480"/>
            <a:ext cx="281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ween now and 2050 Population growth will be generated exclusively in Developing Count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0732400">
            <a:off x="304920" y="40381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a will outgrow Ch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261200">
            <a:off x="4723560" y="441936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K Population may double by 20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they any good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Forecast and actual number of births graph"/>
          <p:cNvPicPr/>
          <p:nvPr/>
        </p:nvPicPr>
        <p:blipFill>
          <a:blip r:embed="rId2"/>
          <a:stretch/>
        </p:blipFill>
        <p:spPr>
          <a:xfrm>
            <a:off x="457200" y="1219320"/>
            <a:ext cx="822960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6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4876920"/>
            <a:ext cx="8534160" cy="17524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how population projections are cal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high, medium and low population projections and their impacts on population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pulation Projections - 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059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s Projections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Institute for Applied System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11962"/>
          <a:stretch/>
        </p:blipFill>
        <p:spPr>
          <a:xfrm>
            <a:off x="457200" y="1447920"/>
            <a:ext cx="8153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lose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5486" r="0" b="3157"/>
          <a:stretch/>
        </p:blipFill>
        <p:spPr>
          <a:xfrm>
            <a:off x="457200" y="129528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these affect the Population Distrib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they Calcula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3276720"/>
            <a:ext cx="8229600" cy="3200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tilit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talit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ion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um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1:54:52Z</dcterms:created>
  <dc:creator>Phil Randay</dc:creator>
  <dc:description/>
  <dc:language>en-US</dc:language>
  <cp:lastModifiedBy>Phil Randay</cp:lastModifiedBy>
  <dcterms:modified xsi:type="dcterms:W3CDTF">2009-09-11T04:06:49Z</dcterms:modified>
  <cp:revision>8</cp:revision>
  <dc:subject/>
  <dc:title>Selected Headlines</dc:title>
</cp:coreProperties>
</file>