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E18-D93A-4D5E-B5BB-963272BB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ED5-D558-4371-937C-03D3A9F0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DB3-0C44-46F5-A3DB-E064C0A4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975-D4AE-42C9-9853-F3AC6E88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F12-2F98-48EC-B779-62FE137E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D73-D49A-4972-9489-0D5031F5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CD8-B4C3-48DC-8F7C-EC6498FF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E88-F9C5-4275-9686-051CE765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F11-0185-4EE3-8F59-6D8C626A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B0D-E199-4107-9012-A032FBE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469-FC48-4324-AF4A-F00B7D8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835-D872-41AE-B9E9-2A5E702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E01A-945A-42E2-9B55-F3C591FFB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Head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804400">
            <a:off x="379800" y="175104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generation Minorities will be the maj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52600">
            <a:off x="5714640" y="175248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now and 2050 Population growth will be generated exclusively in Developing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32400">
            <a:off x="304920" y="40381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 will outgrow Ch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261200">
            <a:off x="4723560" y="44193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 Population may double by 20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y any good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orecast and actual number of births graph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8534160" cy="1752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population projections are 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high, medium and low population projections and their impacts on population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Projections - 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rojection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Institute for Applied System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11962"/>
          <a:stretch/>
        </p:blipFill>
        <p:spPr>
          <a:xfrm>
            <a:off x="457200" y="14479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lose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5486" r="0" b="3157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se affect the Population Distrib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they Calcul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229600" cy="3200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alit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54:52Z</dcterms:created>
  <dc:creator>Phil Randay</dc:creator>
  <dc:description/>
  <dc:language>en-US</dc:language>
  <cp:lastModifiedBy>Phil Randay</cp:lastModifiedBy>
  <dcterms:modified xsi:type="dcterms:W3CDTF">2009-09-11T04:06:49Z</dcterms:modified>
  <cp:revision>8</cp:revision>
  <dc:subject/>
  <dc:title>Selected Headlines</dc:title>
</cp:coreProperties>
</file>