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48E-A3B3-4293-BCF1-172B330A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2BB-FAD9-4AA9-9977-46C4961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BAC-4EBE-436F-8169-7DE51FC3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D73-6676-4E21-B2DC-9B3A9B30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9E5-9450-4E6D-9A94-BDAB9103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FB8-6B9A-4C07-8A86-F11F4C2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15A-35DC-4ACB-A3AB-FD374DF1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462-E4F9-48B2-B036-9E8CF33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850-ABF1-4753-8840-7916265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2A1-6835-4B08-A2FA-D6F10DD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D2B-FC40-4EE4-8260-5B20DE6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2DA-4B72-481A-A541-8F2495B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D156-51AF-40E1-802A-F23B24F2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Head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804400">
            <a:off x="379800" y="17510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generation Minorities will be the maj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52600">
            <a:off x="5714640" y="17524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now and 2050 Population growth will be generated exclusively in Developing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32400">
            <a:off x="304920" y="4038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 will outgrow 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61200">
            <a:off x="4723560" y="4419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 Population may double by 2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y any good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orecast and actual number of births graph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53416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population projections ar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high, medium and low population projections and their impacts on populatio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Projections -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rojection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Institute for Applied System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1962"/>
          <a:stretch/>
        </p:blipFill>
        <p:spPr>
          <a:xfrm>
            <a:off x="457200" y="14479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os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5486" r="0" b="3157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se affect the Population Dis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they Calc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54:52Z</dcterms:created>
  <dc:creator>Phil Randay</dc:creator>
  <dc:description/>
  <dc:language>en-US</dc:language>
  <cp:lastModifiedBy>Phil Randay</cp:lastModifiedBy>
  <dcterms:modified xsi:type="dcterms:W3CDTF">2009-09-11T04:06:49Z</dcterms:modified>
  <cp:revision>8</cp:revision>
  <dc:subject/>
  <dc:title>Selected Headlines</dc:title>
</cp:coreProperties>
</file>