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C65-9864-45B2-8A74-A97BC1A1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28E-B1DF-40CB-BF2E-A2FF9DD3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AED-ADA0-4F66-B97C-4DC1E5F1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66E-0416-423D-B6AB-B3143363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B6D-D982-4906-A2D7-70FEC2EF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CD4-7A23-40E7-B002-86D1D4D4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2CD-FA61-42BB-82B3-61BC6AFD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A1C-EC20-4AB4-97D3-37897C66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3D9-9D91-4596-8980-51F53B7C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84D-6CD4-44D9-82A7-5E412028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2FF4-DFF0-45EF-859C-A55210DE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39A-A686-440A-BB82-C737BBCA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2006-4BD5-4394-8649-94A0A1AC7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eographyalltheway.com/igcse_geography/population_settlement/population/ageing_population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ographyalltheway.com/igcse_geography/population_settlement/population/ageing_population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570" b="0"/>
          <a:stretch/>
        </p:blipFill>
        <p:spPr>
          <a:xfrm>
            <a:off x="1981080" y="152280"/>
            <a:ext cx="457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scribe this areas population stru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18730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in the world might thi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472000" cy="4921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70920" y="1557360"/>
            <a:ext cx="1873080" cy="381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worked for the council in this area what problems may this structure provide you wit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en to the radio article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ing / Greying Pop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when a country has a large number of people over the age of 65 in thei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the impacts on the countr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to the radio 4 article                                    on the at the  very bottom of                                  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is pag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ageing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48395" t="0" r="0" b="7733"/>
          <a:stretch/>
        </p:blipFill>
        <p:spPr>
          <a:xfrm>
            <a:off x="6400800" y="3833640"/>
            <a:ext cx="25876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main problem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more health care e.g. retirement homes, hospital beds, more undertaker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ed health care workers, e.g. nurses, doctor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tax – not pop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ise retirement age – not pop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lish state pensions – not pop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325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ase study: Italy's Ageing Pop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the newspaper article and then answer the questions on the artic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0687" t="45272" r="20296" b="14367"/>
          <a:stretch/>
        </p:blipFill>
        <p:spPr>
          <a:xfrm>
            <a:off x="3780000" y="2637000"/>
            <a:ext cx="4824360" cy="247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27655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aly’s Baby cri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5 changes that are occuring in the village of Vastrogirardi as it gets sm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aly’s birthrate falling so rapidly? (give 3 reas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nd explain 3 different effects on Italy if the population structure changes in all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ust a minu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229600" cy="16131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lk for a minute on the follow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blems of old people on a country’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23:30:47Z</dcterms:created>
  <dc:creator>Phil Randay</dc:creator>
  <dc:description/>
  <dc:language>en-US</dc:language>
  <cp:lastModifiedBy>Phil Randay</cp:lastModifiedBy>
  <dcterms:modified xsi:type="dcterms:W3CDTF">2009-09-22T14:53:11Z</dcterms:modified>
  <cp:revision>3</cp:revision>
  <dc:subject/>
  <dc:title>Describe this areas population structure?</dc:title>
</cp:coreProperties>
</file>