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46AB-AC02-4F2A-800D-074A39BA9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07EC-0B1E-4CC5-8700-5E5BF1178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3830-6BBC-4A3C-B53D-D25736203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493A-A270-47ED-8802-C83FA0771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2F4F-C37F-4A5D-A91B-361051903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5CE6-3335-4CDF-932F-DAF049E63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BB0C-9861-44BD-96A9-6CB001244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F29C-509A-458B-8D63-9AF38D5E7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FD48-BD31-4211-B37F-249382B5B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682F-2D70-46A8-A60D-6C38BF3E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8770-39FB-42F7-AA9E-B23EB2FF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27F2-2021-4F43-B1F3-CFAF79F1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E604C-225B-423D-9635-467A1436F9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geographyalltheway.com/igcse_geography/population_settlement/population/ageing_population.htm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eographyalltheway.com/igcse_geography/population_settlement/population/ageing_population.htm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2570" b="0"/>
          <a:stretch/>
        </p:blipFill>
        <p:spPr>
          <a:xfrm>
            <a:off x="1981080" y="152280"/>
            <a:ext cx="45720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escribe this areas population stru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18730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re in the world might this b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79640" y="1484280"/>
            <a:ext cx="5472000" cy="4921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270920" y="1557360"/>
            <a:ext cx="1873080" cy="381636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you worked for the council in this area what problems may this structure provide you with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en to the radio article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geing / Greying Popul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when a country has a large number of people over the age of 65 in their count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re the impacts on the countr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sten to the radio 4 article                                    on the at the  very bottom of                                   </a:t>
            </a: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his page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 ageing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48395" t="0" r="0" b="7733"/>
          <a:stretch/>
        </p:blipFill>
        <p:spPr>
          <a:xfrm>
            <a:off x="6400800" y="3833640"/>
            <a:ext cx="25876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main problem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alth 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vide more health care e.g. retirement homes, hospital beds, more undertakers, 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killed health care workers, e.g. nurses, doctors, 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rease tax – not pop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ise retirement age – not popul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bolish state pensions – not popul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13255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ase study: Italy's Ageing Popul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the newspaper article and then answer the questions on the artic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20687" t="45272" r="20296" b="14367"/>
          <a:stretch/>
        </p:blipFill>
        <p:spPr>
          <a:xfrm>
            <a:off x="3780000" y="2637000"/>
            <a:ext cx="4824360" cy="2476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55640" y="2637000"/>
            <a:ext cx="276552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Italy’s Baby cri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5 changes that are occuring in the village of Vastrogirardi as it gets sma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Italy’s birthrate falling so rapidly? (give 3 reas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and explain 3 different effects on Italy if the population structure changes in all vill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ust a minut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2895120"/>
            <a:ext cx="8229600" cy="16131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lk for a minute on the follow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problems of old people on a country’s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1T23:30:47Z</dcterms:created>
  <dc:creator>Phil Randay</dc:creator>
  <dc:description/>
  <dc:language>en-US</dc:language>
  <cp:lastModifiedBy>Phil Randay</cp:lastModifiedBy>
  <dcterms:modified xsi:type="dcterms:W3CDTF">2009-09-22T14:53:11Z</dcterms:modified>
  <cp:revision>3</cp:revision>
  <dc:subject/>
  <dc:title>Describe this areas population structure?</dc:title>
</cp:coreProperties>
</file>