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147-9D3E-4181-B299-80E2F260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687-94F7-47FD-8DE2-30EF4256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F2B-60E8-40EE-9EC7-36E11312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EA9-646B-4A3D-AA3D-78709086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EA4-0D67-4C39-B37A-E31DB03E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C3B-0DAF-4D25-BC87-C1BFE2FE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B9E-1683-4E76-B532-9294D0A0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5C9-359A-4A50-BC56-8E08BD11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73A-9B85-4A23-BE19-1BF4164F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61D-2772-4AB0-9C1E-1FFE6F9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B5A-EC96-4EA5-90E1-8833A0A1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7DC-E23C-4A07-B10F-DB777C94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6F84-5831-46CC-BE5D-31B9FCC5E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eographyalltheway.com/igcse_geography/population_settlement/population/ageing_population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ographyalltheway.com/igcse_geography/population_settlement/population/ageing_population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70" b="0"/>
          <a:stretch/>
        </p:blipFill>
        <p:spPr>
          <a:xfrm>
            <a:off x="1981080" y="15228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scribe this areas population stru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1873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in the world might thi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472000" cy="492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70920" y="1557360"/>
            <a:ext cx="1873080" cy="381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worked for the council in this area what problems may this structure provide you wit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 to the radio articl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ing / Greying 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when a country has a large number of people over the age of 65 in thei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impacts on the count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to the radio 4 article                                    on the at the  very bottom of                                  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is pag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ageing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48395" t="0" r="0" b="7733"/>
          <a:stretch/>
        </p:blipFill>
        <p:spPr>
          <a:xfrm>
            <a:off x="6400800" y="3833640"/>
            <a:ext cx="2587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main problem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more health care e.g. retirement homes, hospital beds, more undertaker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ed health care workers, e.g. nurses, doctor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tax – not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e retirement age – not pop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lish state pensions – not pop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325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ase study: Italy's Ageing 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the newspaper article and then answer the questions on the arti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0687" t="45272" r="20296" b="14367"/>
          <a:stretch/>
        </p:blipFill>
        <p:spPr>
          <a:xfrm>
            <a:off x="3780000" y="2637000"/>
            <a:ext cx="4824360" cy="247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7655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aly’s Baby cri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5 changes that are occuring in the village of Vastrogirardi as it gets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aly’s birthrate falling so rapidly? (give 3 reas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d explain 3 different effects on Italy if the population structure changes in all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ust a minu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229600" cy="1613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lk for a minute on the follo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blems of old people on a country’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23:30:47Z</dcterms:created>
  <dc:creator>Phil Randay</dc:creator>
  <dc:description/>
  <dc:language>en-US</dc:language>
  <cp:lastModifiedBy>Phil Randay</cp:lastModifiedBy>
  <dcterms:modified xsi:type="dcterms:W3CDTF">2009-09-22T14:53:11Z</dcterms:modified>
  <cp:revision>3</cp:revision>
  <dc:subject/>
  <dc:title>Describe this areas population structure?</dc:title>
</cp:coreProperties>
</file>