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BDA-EC37-4EC1-AAA9-A860B0C0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706-533C-4692-B458-A6E3A42A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672-6D12-426F-AC38-724F725D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CDD-C466-4682-B8F0-2E9B409D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2A2-F055-4EAC-B4E8-128BC3AC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455-D3BE-4F38-9CAA-DB0D35D6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93E-4BA0-41AD-BAC7-B1D50622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DAB-BFC9-4D24-81B6-5F7307F4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670-7ABE-41AF-AD9C-21D6427D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CFB-BE97-4390-B3F5-945A8CEC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D43-4D03-4C8D-BA98-DF15F21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80C-9D5A-4D9C-B6FF-0502DA48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526B-52A7-4C41-A780-0F7326CFA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eographyalltheway.com/igcse_geography/population_settlement/population/ageing_population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ographyalltheway.com/igcse_geography/population_settlement/population/ageing_population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70" b="0"/>
          <a:stretch/>
        </p:blipFill>
        <p:spPr>
          <a:xfrm>
            <a:off x="1981080" y="15228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scribe this areas population stru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1873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in the world might thi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472000" cy="492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70920" y="1557360"/>
            <a:ext cx="1873080" cy="381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worked for the council in this area what problems may this structure provide you wit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 to the radio articl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ing / Greying 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when a country has a large number of people over the age of 65 in thei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impacts on the count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to the radio 4 article                                    on the at the  very bottom of                                  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is pag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ageing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48395" t="0" r="0" b="7733"/>
          <a:stretch/>
        </p:blipFill>
        <p:spPr>
          <a:xfrm>
            <a:off x="6400800" y="3833640"/>
            <a:ext cx="2587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main problem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more health care e.g. retirement homes, hospital beds, more undertaker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ed health care workers, e.g. nurses, doctor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tax – not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e retirement age – not pop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lish state pensions – not pop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325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ase study: Italy's Ageing 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the newspaper article and then answer the questions on the arti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0687" t="45272" r="20296" b="14367"/>
          <a:stretch/>
        </p:blipFill>
        <p:spPr>
          <a:xfrm>
            <a:off x="3780000" y="2637000"/>
            <a:ext cx="4824360" cy="247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7655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aly’s Baby cri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5 changes that are occuring in the village of Vastrogirardi as it gets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aly’s birthrate falling so rapidly? (give 3 reas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d explain 3 different effects on Italy if the population structure changes in all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ust a minu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229600" cy="1613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lk for a minute on the follo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blems of old people on a country’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23:30:47Z</dcterms:created>
  <dc:creator>Phil Randay</dc:creator>
  <dc:description/>
  <dc:language>en-US</dc:language>
  <cp:lastModifiedBy>Phil Randay</cp:lastModifiedBy>
  <dcterms:modified xsi:type="dcterms:W3CDTF">2009-09-22T14:53:11Z</dcterms:modified>
  <cp:revision>3</cp:revision>
  <dc:subject/>
  <dc:title>Describe this areas population structure?</dc:title>
</cp:coreProperties>
</file>