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2DA-C169-4413-9F88-D5A74237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96B-B342-4C0C-8052-EC136E96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3EE-6C8E-43A3-A8A0-1146291F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EA4-E12B-45B5-8D02-C76DA21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CBD-8E2A-4010-B231-5FD4A212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6E0-983B-4ADA-A079-1F535026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626-A12B-49EC-96D7-57E021AA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FBD-7051-425A-8348-1B6F35F2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406-87B4-4D39-897D-4C3A308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D7A-5E65-4149-AE09-A043EAB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5E3-5CD9-4B57-A061-64CF5DEB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DCB-8D8C-4626-B54E-D3794A2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774E-D6E1-463A-99E4-BE2400B36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ographyalltheway.com/igcse_geography/population_settlement/population/ageing_population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ographyalltheway.com/igcse_geography/population_settlement/population/ageing_population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70" b="0"/>
          <a:stretch/>
        </p:blipFill>
        <p:spPr>
          <a:xfrm>
            <a:off x="1981080" y="15228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scribe this areas population stru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187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in the world might thi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472000" cy="492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70920" y="1557360"/>
            <a:ext cx="1873080" cy="381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orked for the council in this area what problems may this structure provide you wi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the radio artic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ing / Grey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when a country has a large number of people over the age of 65 in thei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impacts on the count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to the radio 4 article                                    on the at the  very bottom of                                  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 pag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age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48395" t="0" r="0" b="7733"/>
          <a:stretch/>
        </p:blipFill>
        <p:spPr>
          <a:xfrm>
            <a:off x="6400800" y="3833640"/>
            <a:ext cx="2587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main probl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more health care e.g. retirement homes, hospital beds, more undertake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ed health care workers, e.g. nurses, docto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ax – not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 retirement age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lish state pensions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325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ase study: Italy's Age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the newspaper article and then answer the questions on the arti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0687" t="45272" r="20296" b="14367"/>
          <a:stretch/>
        </p:blipFill>
        <p:spPr>
          <a:xfrm>
            <a:off x="3780000" y="2637000"/>
            <a:ext cx="482436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7655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aly’s Baby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5 changes that are occuring in the village of Vastrogirardi as it gets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aly’s birthrate falling so rapidly? (give 3 rea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d explain 3 different effects on Italy if the population structure changes in all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st a minu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1613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lk for a minute on the fol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blems of old people on a country’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23:30:47Z</dcterms:created>
  <dc:creator>Phil Randay</dc:creator>
  <dc:description/>
  <dc:language>en-US</dc:language>
  <cp:lastModifiedBy>Phil Randay</cp:lastModifiedBy>
  <dcterms:modified xsi:type="dcterms:W3CDTF">2009-09-22T14:53:11Z</dcterms:modified>
  <cp:revision>3</cp:revision>
  <dc:subject/>
  <dc:title>Describe this areas population structure?</dc:title>
</cp:coreProperties>
</file>