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56C-F21E-421A-873A-D8E8AB7C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005-8240-4754-B7B8-0C710FEF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660-9C63-4016-A532-5E826A4A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F1F-8AB4-4F6B-98CE-A7777836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99E4-779C-4D7E-AFB8-6ECDA3C5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C429-5C9E-4BD3-A12C-7920641A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64E4-A2AF-4146-B4B6-E01C1C14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D91F-AC59-428E-9B4F-0D50B7F5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01FB-9424-4053-B7E5-70B36DF7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9184-704E-41AB-9FB1-52ADE934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14DE-B73D-4C70-8E34-30658A4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984-C9F2-45D7-9B63-8BE5743B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2847-7A1B-4613-8D76-4E55EB99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06CA-C6A9-4FC2-9CAF-D5267A0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E794-3550-438E-9909-2D46BC8D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A6F2-E483-4A88-A76C-E7D19D6E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72AD-E49E-408F-884E-3FA61CFC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84B24-C8AA-4F20-85D0-4795EFC3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AF36-5EE6-4CB3-A8DD-7180DC18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6CB3-4467-45B0-B445-BEBAB964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FAAE-35CA-4249-8AA6-3F64CD22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D080-6B1E-456F-A3A1-1A3C2B8F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3D6-EEE6-48EC-ADB6-9FD6F085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7E2C-822A-47B0-BF0A-D2CF30C1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652C-1427-45EA-91FD-DCA4C181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6208-65D5-4868-B436-B72C434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53E0-A471-4F53-BA45-A627E0E4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C560-7108-4894-8E4E-E7A73AA0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6580-E135-42FC-821F-5C5FA285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04C0-624F-48C8-B527-D7118A52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27E6-5991-4736-879B-4D376D8B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11858-8106-4B68-913A-EC76EB75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B2920-C0FB-4A5D-AD25-E98E0146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F4A-D8D7-44AB-BD4F-EFAAFE30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2294D-79DA-4AED-B1EA-417E9C5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FE94-B665-473D-AA55-301E4B34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09C4-5902-4FD4-98BC-2B7C8DAE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0C19C-DF9E-43A8-8B2B-70E64665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89FAF-DB32-410E-AECA-EA2A6709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AFD61-B389-459B-98BF-2D0D1CB9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AAAF8-BEFD-4FEB-958A-2F2AD6AB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8CC16-94C6-4803-9E12-9E4C7D19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BEBF5-5DE0-4AEA-B65A-D01BAF68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AF6-0ED7-4F01-BA47-30159D39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B5D-C0C0-483E-85B6-94767530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AF3-DCB8-458E-B3E8-D162355B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593-3F73-48E6-B2DC-057E6832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885-76E8-4641-B818-9494EEE7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D9D5-DAAB-464C-B647-5A4EFF4144BA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2F65-B204-4252-928E-68C46A1A7026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CA7E-C5F8-4DC9-A0A3-6B16857A1E76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4710-070E-4F3E-8CC1-BDA25AA75813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hurch still holds influnece over poli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still take church very serious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5:57:21Z</dcterms:modified>
  <cp:revision>16</cp:revision>
  <dc:subject/>
  <dc:title>Population Policies in Brazil.</dc:title>
</cp:coreProperties>
</file>