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101-38E2-4A46-A633-06337103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B24-5E9A-4F00-9954-B72D01AF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D38-9E4B-4129-8B80-F6CC2B33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89C-2B99-4B79-B779-2FDDD5B7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0C7F-6AA3-4277-8D2A-9271DB4F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4CD-57BF-45D3-B41B-C10BE89E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3819-0660-4A72-858A-B3DDD02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B237-F376-49FF-AB68-10F5317C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C58-58AB-4248-89C1-E05EB54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278B-2944-41E4-8661-95EDFBB3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F5E4-9805-4E80-89FE-3601C79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20B-DAF8-4DC2-A6C9-6FFD8045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C55-DECA-4663-AFA8-3E7ED7B5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BC91-FB8B-4916-BEAE-02540198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7FA6-98D1-45B6-8104-99635610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E969-48BA-459F-90F4-2FB07305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EDD2-FF0B-4A47-9A4D-1DB6CF53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BE1D-8328-46B7-A719-CEE75ADA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D233-162D-44ED-9AE4-A5978F15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104E-2C94-477D-8ABC-EAF52D69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4011-F363-476F-AA7B-E9DBDF21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53A7-AAFC-41F1-A9CF-731F3861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EE6-3C81-4818-AC7B-70FA44B1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128D-556C-4875-B367-DC2C8B0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CA6D-C3F2-466E-BEDF-90364EC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A2F8-1B14-4AF6-B68E-B960963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8900-7BD4-4FC2-9E27-08E86622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A18E-E5A9-4619-9788-88D3E9DA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2F38-1E69-4860-9FF4-B2655382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2A70F-FD35-4262-992E-7490FB92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CD35-7535-4EAC-9538-C04984B7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3B5C-BCEE-4C50-9F5C-6989F4A2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5980-850B-40F7-BF65-708D89B3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9EE-2A15-49F1-9FB6-91FA96CC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6BB5-1B0E-4E18-AD10-49B9A137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4E27-2D67-4E57-9663-1F78F2DF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98D3-D1C3-45DC-AF73-03D9C8C5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C8F4-963E-4B8E-AD30-53975F82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9197-2270-4499-8345-B0DD3C8E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3BAD-67F1-4A25-82E3-CB63F00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78D9-90AA-44CE-8D69-F13CEF9D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D7C9-C9C3-44B0-9DAF-FC2BDC65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7F197-5EAE-4E8E-99C2-1A679BD2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380-572F-4528-B86B-F21E9BA5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224-BD1A-45A4-908E-E57A03C3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EAA-42D7-4903-A55A-37810B5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646-019E-4213-AECA-FF0A1E7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A07-781F-46A2-AEB3-1F71D1A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EC1C-D6F4-4507-97C7-4E8B3514C8E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ACC-677D-440C-8729-51AEB82753E0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339-AD35-45A9-9932-33E35E820042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3BCD-1047-42F0-A104-80DD5D06DFBF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hurch still holds influnece over poli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still take church very seri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5:57:21Z</dcterms:modified>
  <cp:revision>16</cp:revision>
  <dc:subject/>
  <dc:title>Population Policies in Brazil.</dc:title>
</cp:coreProperties>
</file>