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EE5-6C3D-4988-9704-D637130A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1B0-502E-4E96-B58D-C6D9EDE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459-D6FE-47F1-B8E1-5135F1D9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BB6-0315-44F8-9CFB-652B583B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9784-48D4-4FA7-995E-112ABEFC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34FE-239B-4E84-8080-E7EA969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A5F-E8D3-4EFF-A61B-4C9B56C7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D05B-C35C-4E04-96D8-55C9A754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BAC-C7D9-442C-B509-CB12080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C3C-5F84-4039-BB1F-53E87686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DE9-6FF0-4B8B-BDB8-3F3DBA1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88D-F508-42AE-8103-AA70E26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2194-AA95-4E66-8E35-24350BB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24F4-A477-47C3-A868-AAFC11D6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5929-8612-4277-8C95-9239EED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CADF-958D-4309-87D2-D2E9A611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7BCA-9CA5-4182-BAC9-EA9BD002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60DB-EFB3-479F-AA0B-52AD73C9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47A7-58FB-46D8-A3BC-23B57A8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E075-385F-4907-87BF-62FA6F27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045E-EEFE-43D7-BAB7-3476A2EA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B2AF-128A-445F-9909-C32FB57A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052-AA2D-4737-A70E-B2B59E8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5A0F-B825-485B-804C-2C9E966B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8105-3F4D-482B-A0A9-E1C57EA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FB83-0755-4BBD-BC9E-4DA09B46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BE51-0CBA-4E04-B467-C4020D5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5C24-B3C2-43B8-9226-D1B8EC09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6CEA-A69B-4F90-9013-7B27BC5C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022B-D956-4194-89A6-142033D6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CFEA-73B5-435E-92D4-2DB60B29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7110-05FF-4AB3-BCB0-0C24C688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CC07-A7EB-4116-B31B-0C04DAA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A21-D7F2-4ACC-8D1B-5E45100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A49E5-17C7-402B-984E-12C8EDE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3244-17EC-4E5C-90FC-5BA95E26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1BFE-E014-4B43-9B66-0388D0F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41AE-C2B9-4301-A4CD-0C03B3D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EA56-9030-4DE4-879D-E7B6784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D84AB-C8CC-44F1-ADCF-0718DD6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A04C-CEAD-448A-8275-DA937FE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7294-934F-41A2-B118-74000669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3CAC-DD46-4946-9FB3-E08171E2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AD0-6535-43F3-A7F2-D1933C5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84E-76CF-4DE1-B133-3DC982F3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11A-61CE-4EA5-A20C-18003D7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CEC-5C61-4166-A7B6-FBEC914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B8A-75B5-420B-A57B-B8C9C8C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2AA5-F441-4191-951F-B71B4FF27187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E9A-14C9-4F73-86C8-0AF14E4465B5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618-AF73-459C-80FC-D0E5CD38AD19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8755-3BCF-429C-A154-C53EAF5AD3BA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219240" y="1133640"/>
            <a:ext cx="9496440" cy="206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razilianSociety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or -  fertility rate -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74-197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changed attitu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mily Plan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ormation, contraceptiv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0 per 1000 birth rate targ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vernment fail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oppose polic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 natalist vi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der fina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hurch still holds influnece over poli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ople still take church very seri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lonial Peri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– Control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l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dependence - 1822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0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igration –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2928960"/>
          <a:ext cx="9144000" cy="3714840"/>
        </p:xfrm>
        <a:graphic>
          <a:graphicData uri="http://schemas.openxmlformats.org/drawingml/2006/table">
            <a:tbl>
              <a:tblPr/>
              <a:tblGrid>
                <a:gridCol w="2292480"/>
                <a:gridCol w="1784160"/>
                <a:gridCol w="1665360"/>
                <a:gridCol w="1531800"/>
                <a:gridCol w="1870200"/>
              </a:tblGrid>
              <a:tr h="185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i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30- 18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56-1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84-18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94-1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tugue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,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5,5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00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rowth = Desti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950s, 60s – Decre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50-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dustry + Economic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196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ual population growth decreas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ealth,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bortion and Steri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fect – upper, middle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azilian Society of Family Welf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4:23:32Z</dcterms:created>
  <dc:creator>Lancaster</dc:creator>
  <dc:description/>
  <dc:language>en-US</dc:language>
  <cp:lastModifiedBy>LANCASTER_2</cp:lastModifiedBy>
  <dcterms:modified xsi:type="dcterms:W3CDTF">2010-10-08T15:57:21Z</dcterms:modified>
  <cp:revision>16</cp:revision>
  <dc:subject/>
  <dc:title>Population Policies in Brazil.</dc:title>
</cp:coreProperties>
</file>