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A4D-8818-4D90-9275-B9D12D94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171-74FA-4DEC-A8FF-F2B158D3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446-22D5-428E-B9CE-07F67EAA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B68-7F84-4A2D-8DFD-6E77560A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FAF6-5E90-4403-9434-347480D7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9C8B-C4F3-46D4-9680-C6ABCCE9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73B3-3D9A-42E8-BCEF-AAED6E9C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0ECC-448A-4532-BCB7-188E419E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C1EC-0F79-471E-9896-5E64E4E6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AAF5-5CD6-44EC-81C6-066F5A61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8C7E-C230-4F3F-A60E-4F73AD63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509-E2CB-47E6-84EA-44B9D2EA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BDAD-C88F-4FD3-B342-0A73B764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5049-7364-4822-BA02-74E456AF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DEF0-DFCA-4685-B276-FB5517DC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7524-E8CF-4F34-989F-B0D37F00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6707-4063-4112-B48C-6F935554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8F769-A58A-4CDD-9053-A3F75B28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2EC34-4C8F-4951-A79F-05F256FC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D2500-1660-4ADB-B440-D9C7827F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D923-4307-44EC-A5B5-F57A1366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45F1D-7A9F-492B-BD9D-D61D52D5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D59-1F9A-499B-8F82-46998502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DE022-8204-4692-A89E-2E4A2E98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5548-D2B5-44C5-95FE-3B93AF6F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4C839-FF48-4E04-84E8-75C77E27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12578-D7EF-4AB5-9919-997B4DE9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F7AFC-AEB0-436D-9D4D-53628674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0E953-A14C-44AB-AFC2-F8D5A0A2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E746-C39F-4C76-87EB-C6E39842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8A243-0B62-4070-A4AB-B93296B1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43684-C45D-4EC2-B043-7F3081DD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B9302-282B-4AE7-87A8-31210559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232-BEE0-40DF-8529-ADA44FE9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298C5-9604-48EF-94D2-159F11A6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EC971-2D09-4209-A87B-071C207E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64B80-E22E-4B24-AF73-C7388B5C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BBF7F-FCF4-472B-8F62-8E091989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06C6E-6105-43D8-BB85-FA424398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3B149-ABF0-4963-B8E4-29EDB7B0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A52C3-C90D-4A32-8A59-AF5C9122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23D1-CDA9-4599-ADE4-9ACA7E4C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76A50-9163-498D-AC8A-879A172C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EEE-D6E4-4485-AB4F-E8981B8A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06D-907B-4C52-9695-8F110081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A9F-343B-45E6-8889-6E96CD88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1FE-D39C-4E98-ADBB-20F6E476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43A-6A98-4279-82C5-C5404BE1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03BF-DA67-480F-9E09-41140FD53345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17DA-6BD5-4B0D-BCD5-97CA6DA663B9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F8F6-36E3-4B41-88A4-23E3DCE4126A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0942-4D03-4293-A49F-16FE621B9131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219240" y="1133640"/>
            <a:ext cx="949644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razilianSociety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or -  fertility rate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74-19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changed attit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mily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ormation, contraceptiv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0 per 1000 birth rate targ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fai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oppose poli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 natalist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der fin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hurch still holds influnece over poli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still take church very serious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lonial Peri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– Control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l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dependence - 182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igration –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2928960"/>
          <a:ext cx="9144000" cy="3714840"/>
        </p:xfrm>
        <a:graphic>
          <a:graphicData uri="http://schemas.openxmlformats.org/drawingml/2006/table">
            <a:tbl>
              <a:tblPr/>
              <a:tblGrid>
                <a:gridCol w="2292480"/>
                <a:gridCol w="1784160"/>
                <a:gridCol w="1665360"/>
                <a:gridCol w="1531800"/>
                <a:gridCol w="187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30- 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56-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4-1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4-1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ue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5,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00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= Desti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950s, 60s – Decre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50-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dustry + Economic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ual population growth decre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ealth,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bortion and Ster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fect – upper, middle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azilian Society of Family Welf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4:23:32Z</dcterms:created>
  <dc:creator>Lancaster</dc:creator>
  <dc:description/>
  <dc:language>en-US</dc:language>
  <cp:lastModifiedBy>LANCASTER_2</cp:lastModifiedBy>
  <dcterms:modified xsi:type="dcterms:W3CDTF">2010-10-08T15:57:21Z</dcterms:modified>
  <cp:revision>16</cp:revision>
  <dc:subject/>
  <dc:title>Population Policies in Brazil.</dc:title>
</cp:coreProperties>
</file>