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433-8F94-4C39-8705-EB4E552D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B36-7659-413B-8A05-FA3FEF1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5A9-2F68-4B2D-ABAA-39362975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1B7-7AB1-471B-8F47-242D8C0D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9B3-9AB8-41F6-B072-CDD144A2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3B5-78C4-4F6E-85D7-C160E5DD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0A4-4A09-4A72-A7F8-CF4494D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BE6-559C-4A12-8E42-A90FBC5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FE2-1E47-47A5-B17B-3A451A3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44A-65AE-40DB-90F5-FB79039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78D-2904-4A9B-A8CE-C3D5374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DF4-16C3-46B0-BC28-199EE149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650E-E466-4C4D-B602-4E06B497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ed.fr/jeux.php?_movie=/flash/b17/EN/B17WebSon.swf&amp;titre=How%20do%20we%20measure%20life%20expectancy?&amp;lg=en" TargetMode="External"/><Relationship Id="rId3" Type="http://schemas.openxmlformats.org/officeDocument/2006/relationships/hyperlink" Target="http://www.ined.fr/jeux.php?_movie=/flash/b17/EN/B17WebSon.swf&amp;titre=How%20do%20we%20measure%20life%20expectancy?&amp;lg=en" TargetMode="External"/><Relationship Id="rId4" Type="http://schemas.openxmlformats.org/officeDocument/2006/relationships/hyperlink" Target="http://www.ined.fr/jeux.php?_movie=/flash/b17/EN/B17WebSon.swf&amp;titre=How%20do%20we%20measure%20life%20expectancy?&amp;lg=en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omen an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ucational level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birth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4005360"/>
            <a:ext cx="7931160" cy="2403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Cs main decrease in late industrial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870 life expectancy Manchester - 29 years Sheffield – 3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30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Cs main decreases in second half of twentie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710320" cy="547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munisation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T Spraying-Ma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00480" y="5516280"/>
            <a:ext cx="584352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V Aids has had a huge impact o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157360"/>
            <a:ext cx="8229600" cy="151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RS, Asian Bird Flu, Swine Flu, other future pande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laria remains the biggest cause of death for children under five in Africa.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g-Wook Lee, 200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1360" y="257040"/>
            <a:ext cx="8801280" cy="4335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2276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1628640"/>
            <a:ext cx="88012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pulation Mortality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629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0872" t="16538" r="12356" b="11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0872" t="0" r="11606" b="244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33680" y="2114640"/>
            <a:ext cx="4525920" cy="248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4680" y="3024000"/>
            <a:ext cx="24940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ing life expectancy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14280" y="390600"/>
            <a:ext cx="2257560" cy="233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2960" y="460440"/>
            <a:ext cx="2133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incidence of infectious diseases such as HIV/Aids, cholera, malaria and typhoid will result in low life expectancy and high infant and child mortality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7920" y="1400040"/>
            <a:ext cx="2257560" cy="571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16600" y="1467000"/>
            <a:ext cx="2133720" cy="52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anitation and water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0120" y="3990960"/>
            <a:ext cx="2257560" cy="211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0240" y="4060800"/>
            <a:ext cx="2133720" cy="208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care systems mean that societies are not in a position to combat and fight against diseases that are often manageable and preven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857920" y="4286160"/>
            <a:ext cx="2257560" cy="167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16600" y="4357800"/>
            <a:ext cx="2133720" cy="18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s of malnutrition contribute significantly and make it difficult for people to fight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693880" y="1550880"/>
            <a:ext cx="2887920" cy="11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551720" y="2486160"/>
            <a:ext cx="8748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979720" y="4905360"/>
            <a:ext cx="275580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1436760" y="2847960"/>
            <a:ext cx="79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Epidemiological Transi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989000"/>
            <a:ext cx="8713800" cy="157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DC   ____________________________________  M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ectious diseases ____________ Degenerative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573360"/>
            <a:ext cx="280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lera, TB, Aids, Diarrhoea, Malaria, Typh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573360"/>
            <a:ext cx="3600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r,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Mortality 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3885840"/>
            <a:ext cx="8713800" cy="263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DIFFERENT MEASUREMENTS OF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THE DIFFERENT GLOBAL MORTALIT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rude Death Rat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erage annual number of deaths during a year per 1,000 popul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C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6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with using CDR (Crude Death Rates) is it affected by the age structure of the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ll other things are equal CDR goes up as the average age of the population goes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91520" cy="237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 Expectancy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average number of years to be lived by a group of people born in the same year, if mortality at each age remains constant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n A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plit the total population into different groups (cohorts) to compare some of these differences within a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v poor, urban v rural, male v female, ethnic groups, ag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expectancy figures can be affected by high IMR. If you survive infancy you could live much longer than the life expectancy figures sug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484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ge Sex Specific Death R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ath rate for a particular age group within the population (male/fem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comm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ANT MORTALITY (First year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 MORTALITY (First 5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0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in this age group are preventable and therefore IMR decreases dramatically as medical care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reason IMR is seen as an accurate indicator of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8:59:22Z</dcterms:created>
  <dc:creator>LEEROY</dc:creator>
  <dc:description/>
  <dc:language>en-US</dc:language>
  <cp:lastModifiedBy>Phil Randay</cp:lastModifiedBy>
  <dcterms:modified xsi:type="dcterms:W3CDTF">2010-03-22T17:38:57Z</dcterms:modified>
  <cp:revision>18</cp:revision>
  <dc:subject/>
  <dc:title>Mortality</dc:title>
</cp:coreProperties>
</file>