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8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3.jpeg" ContentType="image/jpeg"/>
  <Override PartName="/ppt/media/image15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4B7-0B29-4C51-A614-D575DE04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35DF-F206-4792-85F1-DF1F1E64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CF9-6144-439B-9DE3-5ADFE2A8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13E-1A75-4815-BC14-4DCFBE0E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FA8E-27C0-44CC-8A71-455CEE7C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D174-C5C9-4047-853C-2E123321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B24-CE14-429A-87FD-7A6345E9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D4EA-5F75-4D9B-A6ED-1A665219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2D89-EE7A-463D-A506-43A003BA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B43-2858-4A7E-A562-CD6CEB08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653-146D-4065-A373-D7AC7650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4078-F97C-421C-827D-8C05CF9C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89DD-E766-4262-A80E-7A22EB9D7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ed.fr/jeux.php?_movie=/flash/b17/EN/B17WebSon.swf&amp;titre=How%20do%20we%20measure%20life%20expectancy?&amp;lg=en" TargetMode="External"/><Relationship Id="rId3" Type="http://schemas.openxmlformats.org/officeDocument/2006/relationships/hyperlink" Target="http://www.ined.fr/jeux.php?_movie=/flash/b17/EN/B17WebSon.swf&amp;titre=How%20do%20we%20measure%20life%20expectancy?&amp;lg=en" TargetMode="External"/><Relationship Id="rId4" Type="http://schemas.openxmlformats.org/officeDocument/2006/relationships/hyperlink" Target="http://www.ined.fr/jeux.php?_movie=/flash/b17/EN/B17WebSon.swf&amp;titre=How%20do%20we%20measure%20life%20expectancy?&amp;lg=en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31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Infant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3789360"/>
            <a:ext cx="8229600" cy="2664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us of women and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ucational level of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e of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birth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ortality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4005360"/>
            <a:ext cx="7931160" cy="2403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Cs main decrease in late industrial rev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1870 life expectancy Manchester - 29 years Sheffield – 33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ortality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5084640"/>
            <a:ext cx="8229600" cy="1430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DCs main decreases in second half of twentie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710320" cy="547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5280" y="333360"/>
            <a:ext cx="842472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munisation Campa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DT Spraying-Mal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00480" y="5516280"/>
            <a:ext cx="584352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ortality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tality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5516280"/>
            <a:ext cx="8229600" cy="115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V Aids has had a huge impact on popu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tality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5157360"/>
            <a:ext cx="8229600" cy="1513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RS, Asian Bird Flu, Swine Flu, other future pandem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4581000"/>
            <a:ext cx="8785440" cy="208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malaria remains the biggest cause of death for children under five in Africa.”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ng-Wook Lee, 2006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1360" y="257040"/>
            <a:ext cx="8801280" cy="4335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000" y="2276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76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1360" y="1628640"/>
            <a:ext cx="880128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Population Mortality"/>
          <p:cNvPicPr/>
          <p:nvPr/>
        </p:nvPicPr>
        <p:blipFill>
          <a:blip r:embed="rId2"/>
          <a:stretch/>
        </p:blipFill>
        <p:spPr>
          <a:xfrm>
            <a:off x="755640" y="260280"/>
            <a:ext cx="7704000" cy="629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6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10872" t="16538" r="12356" b="116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10872" t="0" r="11606" b="244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33680" y="2114640"/>
            <a:ext cx="4525920" cy="248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514680" y="3024000"/>
            <a:ext cx="24940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ing life expectancy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14280" y="390600"/>
            <a:ext cx="2257560" cy="2333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72960" y="460440"/>
            <a:ext cx="213372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igh incidence of infectious diseases such as HIV/Aids, cholera, malaria and typhoid will result in low life expectancy and high infant and child mortality r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857920" y="1400040"/>
            <a:ext cx="2257560" cy="571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916600" y="1467000"/>
            <a:ext cx="2133720" cy="52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sanitation and water supp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00120" y="3990960"/>
            <a:ext cx="2257560" cy="2116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60240" y="4060800"/>
            <a:ext cx="2133720" cy="208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care systems mean that societies are not in a position to combat and fight against diseases that are often manageable and preven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5857920" y="4286160"/>
            <a:ext cx="2257560" cy="1677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916600" y="4357800"/>
            <a:ext cx="2133720" cy="182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levels of malnutrition contribute significantly and make it difficult for people to fight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2693880" y="1550880"/>
            <a:ext cx="2887920" cy="11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7551720" y="2486160"/>
            <a:ext cx="87480" cy="1666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2979720" y="4905360"/>
            <a:ext cx="2755800" cy="333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1436760" y="2847960"/>
            <a:ext cx="792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Epidemiological Transi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989000"/>
            <a:ext cx="8713800" cy="1572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DC   ____________________________________  ME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fectious diseases ____________ Degenerative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573360"/>
            <a:ext cx="28083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lera, TB, Aids, Diarrhoea, Malaria, Typh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4000" y="3573360"/>
            <a:ext cx="360072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r, Heart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69080" cy="1079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Mortality Ra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8920" y="3885840"/>
            <a:ext cx="8713800" cy="2638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FINE THE DIFFERENT MEASUREMENTS OF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DENTIFY THE DIFFERENT GLOBAL MORTALITY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easuring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08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rude Death Rat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verage annual number of deaths during a year per 1,000 popula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C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3268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 with using CDR (Crude Death Rates) is it affected by the age structure of the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ll other things are equal CDR goes up as the average age of the population goes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easuring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3360"/>
            <a:ext cx="8291520" cy="237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fe Expectancy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he average number of years to be lived by a group of people born in the same year, if mortality at each age remains constant in the fu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with Life Expect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an AVER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split the total population into different groups (cohorts) to compare some of these differences within a popu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ch v poor, urban v rural, male v female, ethnic groups, age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e expectancy figures can be affected by high IMR. If you survive infancy you could live much longer than the life expectancy figures sugg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easuring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997000"/>
            <a:ext cx="8229600" cy="3484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ge Sex Specific Death R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eath rate for a particular age group within the population (male/fem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comm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ANT MORTALITY (First year of lif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LD MORTALITY (First 5 ye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Infant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80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deaths in this age group are preventable and therefore IMR decreases dramatically as medical care is impr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this reason IMR is seen as an accurate indicator of develo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8:59:22Z</dcterms:created>
  <dc:creator>LEEROY</dc:creator>
  <dc:description/>
  <dc:language>en-US</dc:language>
  <cp:lastModifiedBy>Phil Randay</cp:lastModifiedBy>
  <dcterms:modified xsi:type="dcterms:W3CDTF">2010-03-22T17:38:57Z</dcterms:modified>
  <cp:revision>18</cp:revision>
  <dc:subject/>
  <dc:title>Mortality</dc:title>
</cp:coreProperties>
</file>