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DEA-2ED7-45D1-9901-B3A1C5AF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AFD-D133-4B56-B018-9E9EADB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C7F-9BDD-4757-8A41-4BA1C0F4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DF7-8929-4B82-9758-450D06AC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8E1-703E-4480-BF9A-03B227D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9F7-06E8-411A-8A9C-440DAE3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A7C-49FD-43F4-AB87-5A93B23C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35D-95DE-4AB0-8047-5BC7736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BD1-2164-4050-936D-26CC7DC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701-335E-48C1-A751-17A7F82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B41-DD96-4E5C-B0A3-C74BD8F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D15-E03E-483F-AC72-D83E8EC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C8E4-BBE3-4B26-979C-A6512ECF4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ed.fr/jeux.php?_movie=/flash/b17/EN/B17WebSon.swf&amp;titre=How%20do%20we%20measure%20life%20expectancy?&amp;lg=en" TargetMode="External"/><Relationship Id="rId3" Type="http://schemas.openxmlformats.org/officeDocument/2006/relationships/hyperlink" Target="http://www.ined.fr/jeux.php?_movie=/flash/b17/EN/B17WebSon.swf&amp;titre=How%20do%20we%20measure%20life%20expectancy?&amp;lg=en" TargetMode="External"/><Relationship Id="rId4" Type="http://schemas.openxmlformats.org/officeDocument/2006/relationships/hyperlink" Target="http://www.ined.fr/jeux.php?_movie=/flash/b17/EN/B17WebSon.swf&amp;titre=How%20do%20we%20measure%20life%20expectancy?&amp;lg=en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us of women an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ucational level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of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birth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4005360"/>
            <a:ext cx="7931160" cy="2403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Cs main decrease in late industrial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870 life expectancy Manchester - 29 years Sheffield – 3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30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Cs main decreases in second half of twentie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710320" cy="547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munisation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DT Spraying-Ma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00480" y="5516280"/>
            <a:ext cx="584352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V Aids has had a huge impact o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157360"/>
            <a:ext cx="8229600" cy="1513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RS, Asian Bird Flu, Swine Flu, other future pande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laria remains the biggest cause of death for children under five in Africa.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g-Wook Lee, 200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1360" y="257040"/>
            <a:ext cx="8801280" cy="4335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2276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1360" y="1628640"/>
            <a:ext cx="88012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pulation Mortality"/>
          <p:cNvPicPr/>
          <p:nvPr/>
        </p:nvPicPr>
        <p:blipFill>
          <a:blip r:embed="rId2"/>
          <a:stretch/>
        </p:blipFill>
        <p:spPr>
          <a:xfrm>
            <a:off x="755640" y="260280"/>
            <a:ext cx="7704000" cy="629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0872" t="16538" r="12356" b="11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0872" t="0" r="11606" b="244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33680" y="2114640"/>
            <a:ext cx="4525920" cy="248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14680" y="3024000"/>
            <a:ext cx="24940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ing life expectancy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14280" y="390600"/>
            <a:ext cx="2257560" cy="233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2960" y="460440"/>
            <a:ext cx="21337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 incidence of infectious diseases such as HIV/Aids, cholera, malaria and typhoid will result in low life expectancy and high infant and child mortality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7920" y="1400040"/>
            <a:ext cx="2257560" cy="571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16600" y="1467000"/>
            <a:ext cx="2133720" cy="52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anitation and water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0120" y="3990960"/>
            <a:ext cx="2257560" cy="211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0240" y="4060800"/>
            <a:ext cx="2133720" cy="208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care systems mean that societies are not in a position to combat and fight against diseases that are often manageable and preven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857920" y="4286160"/>
            <a:ext cx="2257560" cy="167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16600" y="4357800"/>
            <a:ext cx="2133720" cy="18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s of malnutrition contribute significantly and make it difficult for people to fight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693880" y="1550880"/>
            <a:ext cx="2887920" cy="11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551720" y="2486160"/>
            <a:ext cx="8748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979720" y="4905360"/>
            <a:ext cx="275580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1436760" y="2847960"/>
            <a:ext cx="79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Epidemiological Transi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989000"/>
            <a:ext cx="8713800" cy="157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DC   ____________________________________  M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ectious diseases ____________ Degenerative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573360"/>
            <a:ext cx="28083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lera, TB, Aids, Diarrhoea, Malaria, Typh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573360"/>
            <a:ext cx="3600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r,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Mortality 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3885840"/>
            <a:ext cx="8713800" cy="263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DIFFERENT MEASUREMENTS OF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THE DIFFERENT GLOBAL MORTALIT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8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rude Death Rat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verage annual number of deaths during a year per 1,000 popul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C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68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 with using CDR (Crude Death Rates) is it affected by the age structure of the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ll other things are equal CDR goes up as the average age of the population goes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91520" cy="237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 Expectancy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average number of years to be lived by a group of people born in the same year, if mortality at each age remains constant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with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n AVE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split the total population into different groups (cohorts) to compare some of these differences within a popu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 v poor, urban v rural, male v female, ethnic groups, ag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expectancy figures can be affected by high IMR. If you survive infancy you could live much longer than the life expectancy figures sugg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484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ge Sex Specific Death R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ath rate for a particular age group within the population (male/fem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comm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ANT MORTALITY (First year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 MORTALITY (First 5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fant Mor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0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in this age group are preventable and therefore IMR decreases dramatically as medical care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reason IMR is seen as an accurate indicator of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8:59:22Z</dcterms:created>
  <dc:creator>LEEROY</dc:creator>
  <dc:description/>
  <dc:language>en-US</dc:language>
  <cp:lastModifiedBy>Phil Randay</cp:lastModifiedBy>
  <dcterms:modified xsi:type="dcterms:W3CDTF">2010-03-22T17:38:57Z</dcterms:modified>
  <cp:revision>18</cp:revision>
  <dc:subject/>
  <dc:title>Mortality</dc:title>
</cp:coreProperties>
</file>